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EE46-B8ED-44A0-B01A-1FE0541E4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732B-EB80-4E75-89F0-8AA04A0A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7F17-01A9-4636-A81F-F8CA947BC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70D1-EE42-446A-B4BE-7775419A1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48B0-8769-4210-B6C0-8A735BCF8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FEFB-20F9-406E-906D-1EFA6C9E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CCB5-A340-4185-B194-4E688D87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3FBC-EC16-48DC-BD32-0FE57488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5E10-0413-40F9-9909-474B6892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FF3F-B377-46A4-BF90-4C801D86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4151-97E7-4245-91A3-2647160C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40FD-8DC3-431A-A72A-306DB2E6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7634-C358-44D3-BAEE-E4340806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9FA2-A54B-48C6-9FE7-A623E3CE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760E-F177-4868-B348-437E04AA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3A5D-72CF-4EE1-8988-0C72BE7D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12CF-19C0-4989-B724-06523FAC6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0AE2-7959-45DD-8D24-7B6119D5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9585-C2D1-4349-A7C6-409A802E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40BD-1E05-4F55-B823-9CB8095B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A6F1-58EB-463D-A2D0-173E16DC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7633-6785-4766-AC64-9300402E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4ED9-2B67-4055-B8CB-AD762C61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D667-5C11-4994-9D7E-894C5A24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C:\Users\Alex\Desktop\Send Back to FTP\LO banner art\BIO10NAE_08_LOT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3495-3927-4886-9E50-3D6F60805B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72CF-FAFE-4A3B-8264-8C405C051B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Placeholder 2"/>
          <p:cNvSpPr/>
          <p:nvPr/>
        </p:nvSpPr>
        <p:spPr>
          <a:xfrm>
            <a:off x="0" y="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esson Ov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ubtitle 2"/>
          <p:cNvSpPr/>
          <p:nvPr/>
        </p:nvSpPr>
        <p:spPr>
          <a:xfrm>
            <a:off x="2971800" y="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and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" descr="C:\Users\Alex\Desktop\Send Back to FTP\LO banner art\BIO10NAE_08_LOT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45" name="Text Placeholder 2"/>
          <p:cNvSpPr/>
          <p:nvPr/>
        </p:nvSpPr>
        <p:spPr>
          <a:xfrm>
            <a:off x="0" y="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esson Ov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ubtitle 2"/>
          <p:cNvSpPr/>
          <p:nvPr/>
        </p:nvSpPr>
        <p:spPr>
          <a:xfrm>
            <a:off x="2971800" y="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and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Users\Alex\Desktop\Send Back to FTP\LO banner art\BIO10NAE_28_LOTB.jpg"/>
          <p:cNvPicPr/>
          <p:nvPr/>
        </p:nvPicPr>
        <p:blipFill>
          <a:blip r:embed="rId3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Alex\Desktop\Send Back to FTP\LO banner art\BIO10NAE_01_LOTB.jpg"/>
          <p:cNvPicPr/>
          <p:nvPr/>
        </p:nvPicPr>
        <p:blipFill>
          <a:blip r:embed="rId4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CB54-1DF9-400D-9186-71A810CED6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F8E6-1347-4559-BB04-C28ABAA32C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C:\Users\Alex\Desktop\Send Back to FTP\LO stills - splash screens\BIO10NAE_24_CTBG.jpg"/>
          <p:cNvPicPr/>
          <p:nvPr/>
        </p:nvPicPr>
        <p:blipFill>
          <a:blip r:embed="rId1"/>
          <a:stretch/>
        </p:blipFill>
        <p:spPr>
          <a:xfrm>
            <a:off x="228600" y="198360"/>
            <a:ext cx="4954680" cy="63547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81120" y="2133360"/>
            <a:ext cx="39625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81bd"/>
                </a:solidFill>
                <a:latin typeface="Arial"/>
                <a:ea typeface="Arial"/>
              </a:rPr>
              <a:t>Lesson Over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028840" y="3219480"/>
            <a:ext cx="426708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.1 Energy and Lif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Arial"/>
              </a:rPr>
              <a:t>Using Biochemical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P powers movement, providing the energy for motor proteins that contract muscle and power the movement of cilia and flagell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C:\Users\Alex\Desktop\art\BIO10NAE_03_08_02_005_LRIM_03.png"/>
          <p:cNvPicPr/>
          <p:nvPr/>
        </p:nvPicPr>
        <p:blipFill>
          <a:blip r:embed="rId1"/>
          <a:stretch/>
        </p:blipFill>
        <p:spPr>
          <a:xfrm>
            <a:off x="0" y="3352680"/>
            <a:ext cx="9142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Arial"/>
              </a:rPr>
              <a:t>Using Biochemical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ergy from ATP powers the synthesis of proteins and responses to chemical signals at the cell surfa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C:\Users\Alex\Desktop\art\BIO10NAE_03_08_02_005_LRIM_04.png"/>
          <p:cNvPicPr/>
          <p:nvPr/>
        </p:nvPicPr>
        <p:blipFill>
          <a:blip r:embed="rId1"/>
          <a:stretch/>
        </p:blipFill>
        <p:spPr>
          <a:xfrm>
            <a:off x="1440" y="3200400"/>
            <a:ext cx="9142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Arial"/>
              </a:rPr>
              <a:t>Using Biochemical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P is not a good molecule for storing large amounts of energy over the long ter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is more efficient for cells to keep only a small supply of ATP on hand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ells can regenerate ATP from ADP as needed by using the energy in foods like glucos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Users\Alex\Desktop\art\BIO10NAE_03_08_02_005_LRIM_05.png"/>
          <p:cNvPicPr/>
          <p:nvPr/>
        </p:nvPicPr>
        <p:blipFill>
          <a:blip r:embed="rId1"/>
          <a:stretch/>
        </p:blipFill>
        <p:spPr>
          <a:xfrm>
            <a:off x="5587920" y="1676520"/>
            <a:ext cx="355608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  <a:ea typeface="Arial"/>
              </a:rPr>
              <a:t>Heterotrophs and Autotrop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at happens during the process of photosynthesi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" descr="key-icon"/>
          <p:cNvPicPr/>
          <p:nvPr/>
        </p:nvPicPr>
        <p:blipFill>
          <a:blip r:embed="rId1"/>
          <a:stretch/>
        </p:blipFill>
        <p:spPr>
          <a:xfrm>
            <a:off x="304920" y="1676520"/>
            <a:ext cx="41904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  <a:ea typeface="Arial"/>
              </a:rPr>
              <a:t>Heterotrophs and Autotrop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at happens during the process of photosynthesi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process of photosynthesis, plants convert the energy of sunlight into chemical energy stored in the bonds of carbohydrat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key-icon"/>
          <p:cNvPicPr/>
          <p:nvPr/>
        </p:nvPicPr>
        <p:blipFill>
          <a:blip r:embed="rId1"/>
          <a:stretch/>
        </p:blipFill>
        <p:spPr>
          <a:xfrm>
            <a:off x="304920" y="1676520"/>
            <a:ext cx="419040" cy="266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key-icon"/>
          <p:cNvPicPr/>
          <p:nvPr/>
        </p:nvPicPr>
        <p:blipFill>
          <a:blip r:embed="rId2"/>
          <a:stretch/>
        </p:blipFill>
        <p:spPr>
          <a:xfrm>
            <a:off x="304920" y="2362320"/>
            <a:ext cx="41904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Arial"/>
              </a:rPr>
              <a:t>Heterotrophs and Autotrop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sms that obtain food by consuming other living things are known 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terotroph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heterotrophs get their food by eating plants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heterotrophs, such as this cheetah, obtain food from plants indirectly by feeding on plant-eating animal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ill other heterotrophs, such as mushrooms, obtain food by decomposing other organism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Arial"/>
              </a:rPr>
              <a:t>Heterotrophs and Autotrop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sms that make their own food are call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troph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ts, algae, and some bacteria are able to use light energy from the sun to produce food.  The process by which autotrophs use the energy of sunlight to produce high-energy carbohydrates that can be used for food is known 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otosynthes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NK ABOUT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meostasis is hard work. Organisms and the cells within them have to grow and develop, move materials around, build new molecules, and respond to environmental chang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at powers so much activity, and where does that power come from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  <a:ea typeface="Arial"/>
              </a:rPr>
              <a:t>Chemical Energy and A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y is ATP useful to cell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key-icon"/>
          <p:cNvPicPr/>
          <p:nvPr/>
        </p:nvPicPr>
        <p:blipFill>
          <a:blip r:embed="rId1"/>
          <a:stretch/>
        </p:blipFill>
        <p:spPr>
          <a:xfrm>
            <a:off x="304920" y="1676520"/>
            <a:ext cx="41904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  <a:ea typeface="Arial"/>
              </a:rPr>
              <a:t>Chemical Energy and A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y is ATP useful to cell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P can easily release and store energy by breaking and re-forming the bonds between its phosphate groups.  This characteristic of ATP makes it exceptionally useful as a basic energy source for all cell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key-icon"/>
          <p:cNvPicPr/>
          <p:nvPr/>
        </p:nvPicPr>
        <p:blipFill>
          <a:blip r:embed="rId1"/>
          <a:stretch/>
        </p:blipFill>
        <p:spPr>
          <a:xfrm>
            <a:off x="304920" y="1676520"/>
            <a:ext cx="419040" cy="266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key-icon"/>
          <p:cNvPicPr/>
          <p:nvPr/>
        </p:nvPicPr>
        <p:blipFill>
          <a:blip r:embed="rId2"/>
          <a:stretch/>
        </p:blipFill>
        <p:spPr>
          <a:xfrm>
            <a:off x="304920" y="2362320"/>
            <a:ext cx="41904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  <a:ea typeface="Arial"/>
              </a:rPr>
              <a:t>Chemical Energy and A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ergy is the ability to do wor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r cells are busy using energy to build new molecules, contract muscles, and carry out active transpor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out the ability to obtain and use energy, life would cease to exis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  <a:ea typeface="Arial"/>
              </a:rPr>
              <a:t>Chemical Energy and A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e of the most important compounds that cells use to store and rele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ergy 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enosine triphosphate (ATP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P consists of adenine, a 5-carbon sugar called ribose, and th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osphate group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C:\Users\Alex\Desktop\art\BIO10NAE_03_08_02_005_LRIM_01.png"/>
          <p:cNvPicPr/>
          <p:nvPr/>
        </p:nvPicPr>
        <p:blipFill>
          <a:blip r:embed="rId1"/>
          <a:stretch/>
        </p:blipFill>
        <p:spPr>
          <a:xfrm>
            <a:off x="0" y="3962520"/>
            <a:ext cx="9142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Arial"/>
              </a:rPr>
              <a:t>Storing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enosine diphosphate (ADP) looks almost like ATP, except that it has two phosphate groups instead of three. ADP contains some energy, but not as much as ATP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a cell has energy available, it can store small amounts of it by adding phosphate groups to ADP, producing ATP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P is like a rechargeable battery that powers the machinery of the cel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C:\Users\Alex\Desktop\art\BIO10NAE_03_08_02_005_LRIM_02.png"/>
          <p:cNvPicPr/>
          <p:nvPr/>
        </p:nvPicPr>
        <p:blipFill>
          <a:blip r:embed="rId1"/>
          <a:stretch/>
        </p:blipFill>
        <p:spPr>
          <a:xfrm>
            <a:off x="5257800" y="1600200"/>
            <a:ext cx="355608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Arial"/>
              </a:rPr>
              <a:t>Releasing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ells can release the energy stored in ATP by breaking the bonds between the second and third phosphate group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a cell can add or subtract these phosphate groups, it has an efficient way of storing and releasing energy as need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C:\Users\Alex\Desktop\art\BIO10NAE_03_08_02_005_LRIM_02.png"/>
          <p:cNvPicPr/>
          <p:nvPr/>
        </p:nvPicPr>
        <p:blipFill>
          <a:blip r:embed="rId1"/>
          <a:stretch/>
        </p:blipFill>
        <p:spPr>
          <a:xfrm>
            <a:off x="5257800" y="1600200"/>
            <a:ext cx="355608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Arial"/>
              </a:rPr>
              <a:t>Using Biochemical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e way cells use the energy provided by ATP is to carry out active transpor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cell membranes contain sodium-potassium pumps.  ATP provides the energy that keeps these pumps working, maintaining a balance of ions on both sides of the cell membran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00:20:54Z</dcterms:created>
  <dc:creator>Alex</dc:creator>
  <dc:description/>
  <dc:language>en-US</dc:language>
  <cp:lastModifiedBy>Mark Hughes</cp:lastModifiedBy>
  <dcterms:modified xsi:type="dcterms:W3CDTF">2009-06-12T15:12:22Z</dcterms:modified>
  <cp:revision>57</cp:revision>
  <dc:subject/>
  <dc:title>Slide 1</dc:title>
</cp:coreProperties>
</file>