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74F-D1E0-4243-8BCA-B4C7D188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567-849C-46E7-B045-BCFEE5D7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943-DF0B-4062-AF7E-9E9ECDFE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983-BE52-49CB-A0FE-CC177397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2BC-93E2-43B8-A7E9-C774475A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55BC-ACE9-4C51-AB1E-7CE396A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DEEC-64D2-48A6-81B3-DC6CD80A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A5BF-DAB4-44F5-A334-B51F75F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EEA-B13F-429D-A22A-62971947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7CAE-AC40-43F6-9909-175FC57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ADA-FCAF-4E6D-B881-56045A3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43D-2158-4508-8DE1-1FFAEF0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812-D551-4DE8-A643-50F4F39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F82-2051-423A-8295-623B06B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CCD8-6F94-4B3E-9FCE-532F9FEB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4A36-0860-41EE-AFD9-003473CB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6B7-CDE3-42E2-842F-98CE47BC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BCC-D0C1-4DBB-AAF0-1678D66A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BB8-F287-4985-9B14-8121B57E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FD7-84F8-469F-B6F5-C43781C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FBD-7C8E-4A1D-8740-FC7C8781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C36-CB95-4E28-83E1-113764F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3A4-E0B4-4FB6-86F5-110C585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798-3921-4FF2-9E32-7ECF7F2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2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BD23-B8FF-458B-801C-D4B278147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2F6-F61C-4B98-B674-DD5D7F80E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819520" y="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rdate Evolution and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2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819520" y="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rdate Evolution and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Alex\Desktop\Send Back to FTP\LO banner art\BIO10NAE_31_LOTB.jpg"/>
          <p:cNvPicPr/>
          <p:nvPr/>
        </p:nvPicPr>
        <p:blipFill>
          <a:blip r:embed="rId5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160E-0F76-4300-AEF4-381BE488B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697-19A3-4026-BAD1-AB1F9FA1C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.2 Chordate Evolu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ladogram of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can we learn by studying the cladogram of chordat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lado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chordates presents current hypotheses about relationships among chordate groups. It als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ows at which points important vertebrate features, such as jaws and limbs, evol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key-icon"/>
          <p:cNvPicPr/>
          <p:nvPr/>
        </p:nvPicPr>
        <p:blipFill>
          <a:blip r:embed="rId2"/>
          <a:stretch/>
        </p:blipFill>
        <p:spPr>
          <a:xfrm>
            <a:off x="304920" y="23623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ladogram of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cladogram of chordates presents current hypotheses about the evolutionary relationships among chordate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124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ladogram of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ircles represent the appearance of certain adaptive features, such as jaws and limbs, during chordate evolution. Each time a new body plan adaptation evolved, a major adaptive radiation occur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124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Nonvertebrate Chord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ssil evidence suggests that the ancestors of living nonvertebrate chordates diverged from the ancestors of vertebrates more than 550 million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chordate groups lack backbones: tunicates and lancele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Nonvertebrate Chord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ult turnicates (subphylum Urochordata) look more like sponges than us.  They have neither a notochord nor a tail.  But their larval forms have all the key chordate characterist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small, fishlike lancelets (subphylum Cephalochordata) live on the sandy ocean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Jawless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earliest fishes appeared in the fossil record about 510 million years ago. They had no true jaws or teeth, and their skeletons were made of cartil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armored jawless fishes, such as those shown in the figure, became extinct about 360 million years a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Alex\Desktop\mop up\chap 10 and 26 supplies\1Ch. 10 &amp; 26  061209\BIO10NAE_07_26_03_005_LRIM_06.png"/>
          <p:cNvPicPr/>
          <p:nvPr/>
        </p:nvPicPr>
        <p:blipFill>
          <a:blip r:embed="rId1"/>
          <a:stretch/>
        </p:blipFill>
        <p:spPr>
          <a:xfrm>
            <a:off x="0" y="38862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Jawless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other ancient clades of jawless fishes gave rise to the two clades of modern jawless fishes: lampreys and hagfish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C:\Users\Alex\Desktop\mop up\chap 10 and 26 supplies\1Ch. 10 &amp; 26  061209\BIO10NAE_07_26_03_005_LRIM_07.png"/>
          <p:cNvPicPr/>
          <p:nvPr/>
        </p:nvPicPr>
        <p:blipFill>
          <a:blip r:embed="rId1"/>
          <a:stretch/>
        </p:blipFill>
        <p:spPr>
          <a:xfrm>
            <a:off x="1440" y="32004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Jawless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mpreys and hagfishes both lack vertebrae and have notochords as adul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mpreys are filter feeders as larvae and parasites as adul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gfishes have pinkish gray, wormlike bodies, secrete incredible amounts of slime, and tie themselves into knot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Sharks and Their Relativ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ancient fishes evolved a revolutionary feeding adaptation: jaw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aws make it possible to bite and chew plants and other anima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unkleosteu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, an ancient fish, could eat just about any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Sharks and Their Relativ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arly fishes also evolved paired pectoral (anterior) and pelvic (posterior) fi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ed fins offered more control of body movement, while tail fins and powerful muscles gave greater thru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K ABOUT I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first glance, fishes, amphibians, reptiles, birds, and mammals appear to be very different. Yet, all are members of the phylum in which we ourselves are classified—phylum Chor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0" y="33526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Sharks and Their Relativ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evolution of paired fins and tail fins launched the adaptive radiation of the class Chondrichthyes: the sharks, rays, and ska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Greek wor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ondr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eans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artilage,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tissue that makes up the skeletons of these “cartilaginous” fish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Bony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group of ancient fishes evolved skeletons made of true bone, launching the radiation of the clas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steichthyes, the bony fi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y-Finned Fish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liv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ony fishes belong to a huge group called ray-finned fi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ay-finned fishes are aquatic vertebrates with skeletons of true bone; most have paired fins, scales, and g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st fishes you are familiar with, such as eels, goldfish, and catfish, are ray-finned fish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be-Finned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be-finned fishes are bony fishes that evolved fleshy fins supported by larger, more substantial bo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modern fishes that are descendants of ancient lobe-finned fishes include lungfishes and coelacanth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5812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be-Finned Fish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group of anci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obe-finned fishes evolved into the ancestors of four-limbed vertebrates,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trapo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124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Amphibia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phibians are vertebr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also, with some exception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equire water for reproduction, breathe with lungs as adults, have moist skin with mucous glands, and lack scales and cla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que “Fishapod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ssils indicate that various lines of lobe-finned fishes evolved sturdier appendages, which resembled the limbs of tetrapo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eries of transitional fossils have been discovered that document the skeletal transformation from lobe-fins to limbs, as shown on the following sli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que “Fishap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C:\Users\Alex\Desktop\mop up\chap 10 and 26 supplies\1Ch. 10 &amp; 26  061209\BIO10NAE_07_26_03_005_LRIM_14.png"/>
          <p:cNvPicPr/>
          <p:nvPr/>
        </p:nvPicPr>
        <p:blipFill>
          <a:blip r:embed="rId1"/>
          <a:stretch/>
        </p:blipFill>
        <p:spPr>
          <a:xfrm>
            <a:off x="223920" y="2422440"/>
            <a:ext cx="8620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que “Fishap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usthenopter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s an early bony fish that used its muscular front fins for steering more than for swimm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nderichth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s a fish with sturdier, more mobile, and proportionately larger front fins than earlier fishes h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iktaali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s not quite a fish and not quite a tetrapo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ha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out, stubby front fins with flexible wri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likely enabled it to prop itself up on land, but it ha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 digits. It had gills and lu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C:\Users\Alex\Desktop\mop up\chap 10 and 26 supplies\1Ch. 10 &amp; 26  061209\BIO10NAE_07_26_03_005_LRIM_23.png"/>
          <p:cNvPicPr/>
          <p:nvPr/>
        </p:nvPicPr>
        <p:blipFill>
          <a:blip r:embed="rId1"/>
          <a:stretch/>
        </p:blipFill>
        <p:spPr>
          <a:xfrm>
            <a:off x="990720" y="4648320"/>
            <a:ext cx="685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que “Fishap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anthosteg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ad digits on its fro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t but spent most of its time in the water. Though it had gill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t may have used its limbs to prop itself out of oxygen-poor water so it could breathe air with its lu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chthyosteg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ad sturdy hind feet with several dig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It probably used them more to paddle through the water than to walk on lan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oterogyrinu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s a true tetrapod and agile both in water and on land, similar to today’s alligato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C:\Users\Alex\Desktop\mop up\chap 10 and 26 supplies\1Ch. 10 &amp; 26  061209\BIO10NAE_07_26_03_005_LRIM_24.png"/>
          <p:cNvPicPr/>
          <p:nvPr/>
        </p:nvPicPr>
        <p:blipFill>
          <a:blip r:embed="rId1"/>
          <a:stretch/>
        </p:blipFill>
        <p:spPr>
          <a:xfrm>
            <a:off x="762120" y="4495680"/>
            <a:ext cx="6858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Origins of the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 most ancient chordat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que “Fishapod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ktaali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ssil shows both fish and tetrapod features, so its discoverers informally refer to it a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ishapod”—part fish, part tetrap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rrestrial Adapta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arly amphibians evolved ways to breathe air and protect themselves from drying 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ch fueled another adaptive radi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phibians became the dominant vertebrates of the Carboniferous Peri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u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limate changes caused most amphibian groups to become extinct by the end of the Permian Peri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rrestrial Adapta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nly three orders of amphibians survive today—frogs and toads, salamanders, and caecil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C:\Users\Alex\Desktop\mop up\chap 10 and 26 supplies\1Ch. 10 &amp; 26  061209\BIO10NAE_07_26_03_005_LRIM_16.png"/>
          <p:cNvPicPr/>
          <p:nvPr/>
        </p:nvPicPr>
        <p:blipFill>
          <a:blip r:embed="rId1"/>
          <a:stretch/>
        </p:blipFill>
        <p:spPr>
          <a:xfrm>
            <a:off x="1440" y="30481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Repti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eptiles were the first vertebrates to evolve adaptations to drier condi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reptile is a vertebrate with dry, scaly skin, well-developed lungs, strong limbs, and shelled eggs that do not develop in wa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Repti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ving reptiles are represented by four groups: lizards and snakes, crocodilians, turtles and tortoises, and the tuat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Alex\Desktop\mop up\chap 10 and 26 supplies\1Ch. 10 &amp; 26  061209\BIO10NAE_07_26_03_005_LRIM_17.png"/>
          <p:cNvPicPr/>
          <p:nvPr/>
        </p:nvPicPr>
        <p:blipFill>
          <a:blip r:embed="rId1"/>
          <a:stretch/>
        </p:blipFill>
        <p:spPr>
          <a:xfrm>
            <a:off x="1440" y="29718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Repti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the Carboniferous Period ended a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ermian Period be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arth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limate became cooler and less hu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aptive radi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eptiles be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ladogram shows current hypotheses about the relationships between living and extinct rept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C:\Users\Alex\Desktop\mop up\chap 10 and 26 supplies\1Ch. 10 &amp; 26  061209\BIO10NAE_07_26_03_005_LRIM_18.png"/>
          <p:cNvPicPr/>
          <p:nvPr/>
        </p:nvPicPr>
        <p:blipFill>
          <a:blip r:embed="rId1"/>
          <a:stretch/>
        </p:blipFill>
        <p:spPr>
          <a:xfrm>
            <a:off x="144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er the Dinosaur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Triassic and Jurassic periods saw a great adaptive radiation of reptiles. Dinosau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ved all over the world, and they were diverse in appearance and in hab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evolutionary lineage that led to modern birds came from one group of feathered dinosa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C:\Users\Alex\Desktop\mop up\chap 10 and 26 supplies\1Ch. 10 &amp; 26  061209\BIO10NAE_07_26_03_005_LRIM_18.png"/>
          <p:cNvPicPr/>
          <p:nvPr/>
        </p:nvPicPr>
        <p:blipFill>
          <a:blip r:embed="rId1"/>
          <a:stretch/>
        </p:blipFill>
        <p:spPr>
          <a:xfrm>
            <a:off x="144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it the Dinosaur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retaceous Period, a worldwide mass extin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curred. According to current hypotheses, it was caused by a series of natural disasters: a string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volcanic eruptions, a fall in sea level, and a huge asteroid smashing into what is now the Yucatán Peninsula in Mexic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these event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inosaurs, along with many other animal and plant groups, became ex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oth on land and in the se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Bird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irds are reptiles that regulate their internal body temperature (endother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y have an outer covering of feathers; strong yet lightweight bones; two legs covered with scales that are used for walking or perching; and front limbs modified into w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1440" y="38098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rd Roo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fossil discoveries support the hypothesis th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irds evolved from a group of dinosau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irst birdlike foss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ed wa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rchaeopteryx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hi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ws both bird characteristics (flight feathers) and dinosaur characteristics (teeth and bony ta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fossil and an artist’s concep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chaeoptery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C:\Users\Alex\Desktop\mop up\chap 10 and 26 supplies\1Ch. 10 &amp; 26  061209\BIO10NAE_07_26_03_005_LRIM_20.png"/>
          <p:cNvPicPr/>
          <p:nvPr/>
        </p:nvPicPr>
        <p:blipFill>
          <a:blip r:embed="rId1"/>
          <a:stretch/>
        </p:blipFill>
        <p:spPr>
          <a:xfrm>
            <a:off x="5587920" y="1523880"/>
            <a:ext cx="355608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Origins of the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 most ancient chordat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mbryological studies suggest that the most ancient chordates were related to the ancestors of echinoder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key-icon"/>
          <p:cNvPicPr/>
          <p:nvPr/>
        </p:nvPicPr>
        <p:blipFill>
          <a:blip r:embed="rId2"/>
          <a:stretch/>
        </p:blipFill>
        <p:spPr>
          <a:xfrm>
            <a:off x="304920" y="23623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rd Classific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irds, the traditional class A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make up a clade that is part of the clade containing dinosau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the clade contain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inosaurs is part of a larger clade of reptiles, modern birds are also repti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C:\Users\Alex\Desktop\mop up\chap 10 and 26 supplies\1Ch. 10 &amp; 26  061209\BIO10NAE_07_26_03_005_LRIM_18.png"/>
          <p:cNvPicPr/>
          <p:nvPr/>
        </p:nvPicPr>
        <p:blipFill>
          <a:blip r:embed="rId1"/>
          <a:stretch/>
        </p:blipFill>
        <p:spPr>
          <a:xfrm>
            <a:off x="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rd Classific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raditional class Reptilia, which includes living reptiles and dinosaurs bu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irds, however, is not a cl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C:\Users\Alex\Desktop\mop up\chap 10 and 26 supplies\1Ch. 10 &amp; 26  061209\BIO10NAE_07_26_03_005_LRIM_18.png"/>
          <p:cNvPicPr/>
          <p:nvPr/>
        </p:nvPicPr>
        <p:blipFill>
          <a:blip r:embed="rId1"/>
          <a:stretch/>
        </p:blipFill>
        <p:spPr>
          <a:xfrm>
            <a:off x="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Mammal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aracteristics unique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mmal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nclude mammary glands in females that produce milk to nourish young, and ha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mmals also breathe air, have four-chambered hearts, and regulate their internal body tempera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:\Users\Alex\Desktop\mop up\chap 10 and 26 supplies\1Ch. 10 &amp; 26  061209\BIO10NAE_07_26_03_005_LRIM_21.png"/>
          <p:cNvPicPr/>
          <p:nvPr/>
        </p:nvPicPr>
        <p:blipFill>
          <a:blip r:embed="rId1"/>
          <a:stretch/>
        </p:blipFill>
        <p:spPr>
          <a:xfrm>
            <a:off x="0" y="38098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Mammal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rue mammals first appeared during the late Triassic Perio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were very small and resembled modern tree shre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Mammal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dinosaurs ruled, mammals remained generally small and were probably active mostly at nigh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fossils and DNA analyses suggest th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first members of modern mammalian groups, including primates, rodents, and hoofed mammals, evolved during this perio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fter the great dinosaur extinction, mammals diversified, increa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ize, and occupied many nich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Cenozoic Era is usually called the Age of Mamm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rn Mam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the beginning o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nozoic Era, three major groups of mammals had evolved—monotremes, marsupials, and placenta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three groups differ in their means of reproduction and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five species o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gg-laying monotremes, including the duckbill platypu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xist today, all in Australia and New Guine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rsupials, which include kangaroos, koalas, and wombats, bear live young that usually complete their development in an external p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lacental mammals have embryos that develop further while still inside the mothe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birth, most placental mammals care for their young and nurse them to provide nourish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Earliest Chord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Cambrian fossil deposits include some early chordate fossils, such a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ikaia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is shown in the fig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sts first thought it was a worm but then determined that it had a notochord and paired muscles arranged in a series, like those of simple modern chordat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Users\Alex\Desktop\mop up\chap 10 and 26 supplies\1Ch. 10 &amp; 26  061209\BIO10NAE_07_26_03_005_LRIM_02.png"/>
          <p:cNvPicPr/>
          <p:nvPr/>
        </p:nvPicPr>
        <p:blipFill>
          <a:blip r:embed="rId1"/>
          <a:srcRect l="0" t="0" r="44176" b="0"/>
          <a:stretch/>
        </p:blipFill>
        <p:spPr>
          <a:xfrm>
            <a:off x="1371600" y="3809880"/>
            <a:ext cx="51037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Alex\Desktop\mop up\chap 10 and 26 supplies\1Ch. 10 &amp; 26  061209\BIO10NAE_07_26_03_005_LRIM_02.png"/>
          <p:cNvPicPr/>
          <p:nvPr/>
        </p:nvPicPr>
        <p:blipFill>
          <a:blip r:embed="rId2"/>
          <a:srcRect l="53343" t="0" r="33324" b="70011"/>
          <a:stretch/>
        </p:blipFill>
        <p:spPr>
          <a:xfrm>
            <a:off x="6248520" y="3809880"/>
            <a:ext cx="1218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Earliest Chord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n 1999, fossil beds from later in the Cambrian Period yielded specimens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yllokunming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, the earliest known vertebra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se fossils show muscles arranged in a series, traces of fins, sets of feathery gills, a head with paired sense organs, and a skull and skeletal structures likely made of cartil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artilag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is a strong connective tissue that is softer and more flexible than bone. It supports all or part of a vertebrate’s bod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Modern Chordate Diversit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dern chordates consist of six groups: the nonvertebrate chordates and the five groups of vertebrates—fishes, amphibians, reptiles, birds, and mamma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Users\Alex\Desktop\mop up\chap 10 and 26 supplies\1Ch. 10 &amp; 26  061209\BIO10NAE_07_26_03_005_LRIM_01.png"/>
          <p:cNvPicPr/>
          <p:nvPr/>
        </p:nvPicPr>
        <p:blipFill>
          <a:blip r:embed="rId1"/>
          <a:stretch/>
        </p:blipFill>
        <p:spPr>
          <a:xfrm>
            <a:off x="0" y="33526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Modern Chordate Diversit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bout 96 percent of all modern chordate species are vertebrates, with fishes making up the largest grou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day’s chordate species are only a small fraction of the total number of chordates that have existed over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  <a:ea typeface="Arial"/>
              </a:rPr>
              <a:t>Cladogram of Chor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can we learn by studying the cladogram of chordat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2:05:29Z</dcterms:created>
  <dc:creator>Alex</dc:creator>
  <dc:description/>
  <dc:language>en-US</dc:language>
  <cp:lastModifiedBy>CTAYLOR</cp:lastModifiedBy>
  <dcterms:modified xsi:type="dcterms:W3CDTF">2014-01-24T21:10:14Z</dcterms:modified>
  <cp:revision>300</cp:revision>
  <dc:subject/>
  <dc:title>Slide 1</dc:title>
</cp:coreProperties>
</file>