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164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38200" y="106488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164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38200" y="3812040"/>
            <a:ext cx="25009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1204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064880"/>
            <a:ext cx="379044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12040"/>
            <a:ext cx="776772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2940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324480"/>
            <a:ext cx="9144000" cy="152280"/>
            <a:chOff x="0" y="6324480"/>
            <a:chExt cx="9144000" cy="152280"/>
          </a:xfrm>
        </p:grpSpPr>
        <p:sp>
          <p:nvSpPr>
            <p:cNvPr id="5" name="Line 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6ba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7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334120" y="15228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ecture Slide 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Patty Bostwick-Taylor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rence-Darlington Technical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181480" y="6400800"/>
            <a:ext cx="3886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9 Pearson Education, Inc., publishing as Benjamin Cumming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5791320"/>
            <a:ext cx="9144000" cy="152280"/>
            <a:chOff x="0" y="5791320"/>
            <a:chExt cx="9144000" cy="152280"/>
          </a:xfrm>
        </p:grpSpPr>
        <p:sp>
          <p:nvSpPr>
            <p:cNvPr id="50" name="Line 8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6ba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9"/>
            <p:cNvSpPr/>
            <p:nvPr/>
          </p:nvSpPr>
          <p:spPr>
            <a:xfrm>
              <a:off x="0" y="5867640"/>
              <a:ext cx="9144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a63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1" descr="51353Marieb9e_ecat"/>
          <p:cNvPicPr/>
          <p:nvPr/>
        </p:nvPicPr>
        <p:blipFill>
          <a:blip r:embed="rId2"/>
          <a:stretch/>
        </p:blipFill>
        <p:spPr>
          <a:xfrm>
            <a:off x="152280" y="228600"/>
            <a:ext cx="49532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7620120" y="5486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39a"/>
                </a:solidFill>
                <a:latin typeface="Arial"/>
              </a:rPr>
              <a:t>PA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095880" y="464832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>
                <a:solidFill>
                  <a:srgbClr val="0a639a"/>
                </a:solidFill>
                <a:latin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52280" y="228600"/>
            <a:ext cx="495324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3" marL="187632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4" marL="240660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5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6" marL="2406600" indent="-284040"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3760" y="2490480"/>
            <a:ext cx="3276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639a"/>
                </a:solidFill>
                <a:latin typeface="Arial"/>
              </a:rPr>
              <a:t>The Skeletal System</a:t>
            </a:r>
            <a:endParaRPr b="1" lang="en-US" sz="32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Upper Limb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38400" y="6019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2a–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_x0011_05_22Figure-L.jpg                                              004E43EE_x000c_EHAP_for_kym                   C37AF81A:"/>
          <p:cNvPicPr/>
          <p:nvPr/>
        </p:nvPicPr>
        <p:blipFill>
          <a:blip r:embed="rId1"/>
          <a:srcRect l="1418" t="1166" r="28120" b="4718"/>
          <a:stretch/>
        </p:blipFill>
        <p:spPr>
          <a:xfrm>
            <a:off x="2697120" y="1066680"/>
            <a:ext cx="3747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Upper Limb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orearm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has two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Ulna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Medial bone in anatomical posi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adius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2" marL="1365120" indent="-34128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Lateral bone in anatomical position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Upper Limb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_x0012_05_22Figurec-L.jpg                                             004E43EE_x000c_EHAP_for_kym                   C37AF81A:"/>
          <p:cNvPicPr/>
          <p:nvPr/>
        </p:nvPicPr>
        <p:blipFill>
          <a:blip r:embed="rId1"/>
          <a:srcRect l="937" t="1093" r="900" b="3477"/>
          <a:stretch/>
        </p:blipFill>
        <p:spPr>
          <a:xfrm>
            <a:off x="2976480" y="1066680"/>
            <a:ext cx="319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Upper Limb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697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and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rpals—wrist 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etacarpals—pal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halanges—finger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Upper Limb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_x0011_05_23Figure-L.jpg                                              004E43EE_x000c_EHAP_for_kym                   C37AF81A:"/>
          <p:cNvPicPr/>
          <p:nvPr/>
        </p:nvPicPr>
        <p:blipFill>
          <a:blip r:embed="rId1"/>
          <a:srcRect l="3870" t="1215" r="1284" b="4764"/>
          <a:stretch/>
        </p:blipFill>
        <p:spPr>
          <a:xfrm>
            <a:off x="2181240" y="1066680"/>
            <a:ext cx="478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endicular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mposed of 126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mbs (appendages)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 girdl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lvic girdl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98" name="Ink 4"/>
          <p:cNvSpPr/>
          <p:nvPr/>
        </p:nvSpPr>
        <p:spPr>
          <a:xfrm>
            <a:off x="4027320" y="2330280"/>
            <a:ext cx="295560" cy="250920"/>
          </a:xfrm>
          <a:custGeom>
            <a:avLst/>
            <a:gdLst/>
            <a:ahLst/>
            <a:rect l="l" t="t" r="r" b="b"/>
            <a:pathLst>
              <a:path w="819" h="696">
                <a:moveTo>
                  <a:pt x="11187" y="6474"/>
                </a:moveTo>
                <a:cubicBezTo>
                  <a:pt x="11201" y="6516"/>
                  <a:pt x="11267" y="6536"/>
                  <a:pt x="11311" y="6573"/>
                </a:cubicBezTo>
                <a:cubicBezTo>
                  <a:pt x="11427" y="6669"/>
                  <a:pt x="11519" y="6774"/>
                  <a:pt x="11633" y="6871"/>
                </a:cubicBezTo>
                <a:cubicBezTo>
                  <a:pt x="11702" y="6930"/>
                  <a:pt x="11735" y="6952"/>
                  <a:pt x="11782" y="7020"/>
                </a:cubicBezTo>
                <a:cubicBezTo>
                  <a:pt x="11804" y="7042"/>
                  <a:pt x="11813" y="7047"/>
                  <a:pt x="11807" y="7069"/>
                </a:cubicBezTo>
                <a:cubicBezTo>
                  <a:pt x="11738" y="7042"/>
                  <a:pt x="11682" y="6997"/>
                  <a:pt x="11633" y="6945"/>
                </a:cubicBezTo>
                <a:cubicBezTo>
                  <a:pt x="11560" y="6868"/>
                  <a:pt x="11522" y="6821"/>
                  <a:pt x="11460" y="6747"/>
                </a:cubicBezTo>
                <a:cubicBezTo>
                  <a:pt x="11443" y="6727"/>
                  <a:pt x="11413" y="6678"/>
                  <a:pt x="11410" y="6672"/>
                </a:cubicBezTo>
                <a:cubicBezTo>
                  <a:pt x="11391" y="6635"/>
                  <a:pt x="11386" y="6606"/>
                  <a:pt x="11361" y="6573"/>
                </a:cubicBezTo>
                <a:cubicBezTo>
                  <a:pt x="11344" y="6551"/>
                  <a:pt x="11270" y="6532"/>
                  <a:pt x="11336" y="6524"/>
                </a:cubicBezTo>
                <a:cubicBezTo>
                  <a:pt x="11470" y="6508"/>
                  <a:pt x="11607" y="6550"/>
                  <a:pt x="11733" y="6499"/>
                </a:cubicBezTo>
                <a:cubicBezTo>
                  <a:pt x="11749" y="6491"/>
                  <a:pt x="11766" y="6482"/>
                  <a:pt x="11782" y="6474"/>
                </a:cubicBezTo>
                <a:cubicBezTo>
                  <a:pt x="11869" y="6474"/>
                  <a:pt x="11818" y="6492"/>
                  <a:pt x="11782" y="6548"/>
                </a:cubicBezTo>
                <a:cubicBezTo>
                  <a:pt x="11722" y="6640"/>
                  <a:pt x="11631" y="6732"/>
                  <a:pt x="11559" y="6821"/>
                </a:cubicBezTo>
                <a:cubicBezTo>
                  <a:pt x="11520" y="6869"/>
                  <a:pt x="11471" y="6937"/>
                  <a:pt x="11460" y="6995"/>
                </a:cubicBezTo>
                <a:cubicBezTo>
                  <a:pt x="11452" y="7036"/>
                  <a:pt x="11443" y="6959"/>
                  <a:pt x="11460" y="6921"/>
                </a:cubicBezTo>
                <a:cubicBezTo>
                  <a:pt x="11505" y="6821"/>
                  <a:pt x="11573" y="6708"/>
                  <a:pt x="11658" y="6648"/>
                </a:cubicBezTo>
                <a:cubicBezTo>
                  <a:pt x="11658" y="6631"/>
                  <a:pt x="11658" y="6615"/>
                  <a:pt x="11658" y="6598"/>
                </a:cubicBezTo>
                <a:cubicBezTo>
                  <a:pt x="11643" y="6672"/>
                  <a:pt x="11583" y="6738"/>
                  <a:pt x="11534" y="6796"/>
                </a:cubicBezTo>
                <a:cubicBezTo>
                  <a:pt x="11516" y="6817"/>
                  <a:pt x="11446" y="6936"/>
                  <a:pt x="11435" y="6945"/>
                </a:cubicBezTo>
                <a:cubicBezTo>
                  <a:pt x="11407" y="6968"/>
                  <a:pt x="11410" y="6967"/>
                  <a:pt x="11410" y="7020"/>
                </a:cubicBezTo>
                <a:cubicBezTo>
                  <a:pt x="11410" y="7071"/>
                  <a:pt x="11412" y="7069"/>
                  <a:pt x="11361" y="7069"/>
                </a:cubicBezTo>
                <a:cubicBezTo>
                  <a:pt x="11311" y="7069"/>
                  <a:pt x="11309" y="7035"/>
                  <a:pt x="11286" y="6995"/>
                </a:cubicBezTo>
                <a:cubicBezTo>
                  <a:pt x="11251" y="6951"/>
                  <a:pt x="11237" y="6926"/>
                  <a:pt x="11237" y="6871"/>
                </a:cubicBezTo>
                <a:cubicBezTo>
                  <a:pt x="11237" y="6827"/>
                  <a:pt x="11386" y="6830"/>
                  <a:pt x="11435" y="6821"/>
                </a:cubicBezTo>
                <a:cubicBezTo>
                  <a:pt x="11594" y="6791"/>
                  <a:pt x="11755" y="6784"/>
                  <a:pt x="11906" y="6722"/>
                </a:cubicBezTo>
                <a:cubicBezTo>
                  <a:pt x="12056" y="6660"/>
                  <a:pt x="11956" y="6693"/>
                  <a:pt x="11857" y="6747"/>
                </a:cubicBezTo>
                <a:cubicBezTo>
                  <a:pt x="11770" y="6795"/>
                  <a:pt x="11656" y="6871"/>
                  <a:pt x="11559" y="6896"/>
                </a:cubicBezTo>
                <a:cubicBezTo>
                  <a:pt x="11464" y="6921"/>
                  <a:pt x="11545" y="6896"/>
                  <a:pt x="11584" y="6896"/>
                </a:cubicBezTo>
                <a:cubicBezTo>
                  <a:pt x="11626" y="6896"/>
                  <a:pt x="11620" y="6941"/>
                  <a:pt x="11584" y="6945"/>
                </a:cubicBezTo>
                <a:cubicBezTo>
                  <a:pt x="11504" y="6955"/>
                  <a:pt x="11478" y="6842"/>
                  <a:pt x="11460" y="6796"/>
                </a:cubicBezTo>
                <a:cubicBezTo>
                  <a:pt x="11407" y="6661"/>
                  <a:pt x="11410" y="6822"/>
                  <a:pt x="11410" y="6871"/>
                </a:cubicBezTo>
                <a:cubicBezTo>
                  <a:pt x="11410" y="6878"/>
                  <a:pt x="11410" y="7025"/>
                  <a:pt x="11410" y="6896"/>
                </a:cubicBezTo>
                <a:cubicBezTo>
                  <a:pt x="11410" y="6842"/>
                  <a:pt x="11380" y="6636"/>
                  <a:pt x="11435" y="6623"/>
                </a:cubicBezTo>
                <a:cubicBezTo>
                  <a:pt x="11496" y="6608"/>
                  <a:pt x="11548" y="6843"/>
                  <a:pt x="11559" y="6871"/>
                </a:cubicBezTo>
                <a:cubicBezTo>
                  <a:pt x="11612" y="6977"/>
                  <a:pt x="11632" y="7017"/>
                  <a:pt x="11658" y="7094"/>
                </a:cubicBezTo>
                <a:cubicBezTo>
                  <a:pt x="11678" y="7135"/>
                  <a:pt x="11687" y="7141"/>
                  <a:pt x="11683" y="7169"/>
                </a:cubicBezTo>
                <a:cubicBezTo>
                  <a:pt x="11683" y="7063"/>
                  <a:pt x="11666" y="6974"/>
                  <a:pt x="11584" y="6896"/>
                </a:cubicBezTo>
                <a:cubicBezTo>
                  <a:pt x="11566" y="6878"/>
                  <a:pt x="11463" y="6739"/>
                  <a:pt x="11435" y="6772"/>
                </a:cubicBezTo>
                <a:cubicBezTo>
                  <a:pt x="11406" y="6806"/>
                  <a:pt x="11446" y="6984"/>
                  <a:pt x="11460" y="7020"/>
                </a:cubicBezTo>
                <a:cubicBezTo>
                  <a:pt x="11485" y="7045"/>
                  <a:pt x="11493" y="7053"/>
                  <a:pt x="11509" y="7069"/>
                </a:cubicBezTo>
                <a:cubicBezTo>
                  <a:pt x="11492" y="6882"/>
                  <a:pt x="11445" y="6865"/>
                  <a:pt x="11311" y="6747"/>
                </a:cubicBezTo>
                <a:cubicBezTo>
                  <a:pt x="11287" y="6726"/>
                  <a:pt x="11221" y="6653"/>
                  <a:pt x="11212" y="6722"/>
                </a:cubicBezTo>
                <a:cubicBezTo>
                  <a:pt x="11212" y="6730"/>
                  <a:pt x="11212" y="6739"/>
                  <a:pt x="11212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Ink 5"/>
          <p:cNvSpPr/>
          <p:nvPr/>
        </p:nvSpPr>
        <p:spPr>
          <a:xfrm>
            <a:off x="3724200" y="2768760"/>
            <a:ext cx="258840" cy="268200"/>
          </a:xfrm>
          <a:custGeom>
            <a:avLst/>
            <a:gdLst/>
            <a:ahLst/>
            <a:rect l="l" t="t" r="r" b="b"/>
            <a:pathLst>
              <a:path w="720" h="746">
                <a:moveTo>
                  <a:pt x="10443" y="7764"/>
                </a:moveTo>
                <a:cubicBezTo>
                  <a:pt x="10495" y="7897"/>
                  <a:pt x="10643" y="7982"/>
                  <a:pt x="10740" y="8086"/>
                </a:cubicBezTo>
                <a:cubicBezTo>
                  <a:pt x="10819" y="8171"/>
                  <a:pt x="10928" y="8292"/>
                  <a:pt x="10964" y="8409"/>
                </a:cubicBezTo>
                <a:cubicBezTo>
                  <a:pt x="10964" y="8417"/>
                  <a:pt x="10964" y="8426"/>
                  <a:pt x="10964" y="8434"/>
                </a:cubicBezTo>
                <a:cubicBezTo>
                  <a:pt x="10827" y="8388"/>
                  <a:pt x="10762" y="8264"/>
                  <a:pt x="10666" y="8161"/>
                </a:cubicBezTo>
                <a:cubicBezTo>
                  <a:pt x="10580" y="8068"/>
                  <a:pt x="10570" y="7863"/>
                  <a:pt x="10443" y="7863"/>
                </a:cubicBezTo>
                <a:cubicBezTo>
                  <a:pt x="10334" y="7863"/>
                  <a:pt x="10518" y="8063"/>
                  <a:pt x="10567" y="8161"/>
                </a:cubicBezTo>
                <a:cubicBezTo>
                  <a:pt x="10612" y="8252"/>
                  <a:pt x="10729" y="8528"/>
                  <a:pt x="10691" y="8434"/>
                </a:cubicBezTo>
                <a:cubicBezTo>
                  <a:pt x="10683" y="8409"/>
                  <a:pt x="10674" y="8384"/>
                  <a:pt x="10666" y="8359"/>
                </a:cubicBezTo>
                <a:cubicBezTo>
                  <a:pt x="10622" y="8286"/>
                  <a:pt x="10441" y="8069"/>
                  <a:pt x="10443" y="7987"/>
                </a:cubicBezTo>
                <a:cubicBezTo>
                  <a:pt x="10444" y="7916"/>
                  <a:pt x="10570" y="8037"/>
                  <a:pt x="10641" y="8037"/>
                </a:cubicBezTo>
                <a:cubicBezTo>
                  <a:pt x="10770" y="8037"/>
                  <a:pt x="10790" y="7996"/>
                  <a:pt x="10815" y="7863"/>
                </a:cubicBezTo>
                <a:cubicBezTo>
                  <a:pt x="10815" y="7838"/>
                  <a:pt x="10815" y="7814"/>
                  <a:pt x="10815" y="7789"/>
                </a:cubicBezTo>
                <a:cubicBezTo>
                  <a:pt x="10815" y="7669"/>
                  <a:pt x="10799" y="7750"/>
                  <a:pt x="10740" y="7813"/>
                </a:cubicBezTo>
                <a:cubicBezTo>
                  <a:pt x="10674" y="7883"/>
                  <a:pt x="10600" y="7970"/>
                  <a:pt x="10567" y="8062"/>
                </a:cubicBezTo>
                <a:cubicBezTo>
                  <a:pt x="10548" y="8115"/>
                  <a:pt x="10567" y="7958"/>
                  <a:pt x="10567" y="7938"/>
                </a:cubicBezTo>
                <a:cubicBezTo>
                  <a:pt x="10567" y="7829"/>
                  <a:pt x="10569" y="7787"/>
                  <a:pt x="10592" y="7714"/>
                </a:cubicBezTo>
                <a:cubicBezTo>
                  <a:pt x="10592" y="7681"/>
                  <a:pt x="10592" y="7681"/>
                  <a:pt x="10592" y="7739"/>
                </a:cubicBezTo>
                <a:cubicBezTo>
                  <a:pt x="10573" y="7897"/>
                  <a:pt x="10507" y="8030"/>
                  <a:pt x="10468" y="8186"/>
                </a:cubicBezTo>
                <a:cubicBezTo>
                  <a:pt x="10455" y="8239"/>
                  <a:pt x="10560" y="7997"/>
                  <a:pt x="10567" y="7987"/>
                </a:cubicBezTo>
                <a:cubicBezTo>
                  <a:pt x="10599" y="7942"/>
                  <a:pt x="10679" y="7748"/>
                  <a:pt x="10691" y="7863"/>
                </a:cubicBezTo>
                <a:cubicBezTo>
                  <a:pt x="10706" y="8008"/>
                  <a:pt x="10644" y="8100"/>
                  <a:pt x="10616" y="8235"/>
                </a:cubicBezTo>
                <a:cubicBezTo>
                  <a:pt x="10588" y="8369"/>
                  <a:pt x="10624" y="8252"/>
                  <a:pt x="10641" y="8161"/>
                </a:cubicBezTo>
                <a:cubicBezTo>
                  <a:pt x="10676" y="8119"/>
                  <a:pt x="10871" y="7884"/>
                  <a:pt x="10716" y="7987"/>
                </a:cubicBezTo>
                <a:cubicBezTo>
                  <a:pt x="10627" y="8075"/>
                  <a:pt x="10505" y="8175"/>
                  <a:pt x="10443" y="8285"/>
                </a:cubicBezTo>
                <a:cubicBezTo>
                  <a:pt x="10424" y="8319"/>
                  <a:pt x="10438" y="8332"/>
                  <a:pt x="10418" y="8359"/>
                </a:cubicBezTo>
                <a:cubicBezTo>
                  <a:pt x="10355" y="8443"/>
                  <a:pt x="10449" y="8398"/>
                  <a:pt x="10517" y="8384"/>
                </a:cubicBezTo>
                <a:cubicBezTo>
                  <a:pt x="10665" y="8352"/>
                  <a:pt x="10823" y="8322"/>
                  <a:pt x="10964" y="8285"/>
                </a:cubicBezTo>
                <a:cubicBezTo>
                  <a:pt x="11013" y="8260"/>
                  <a:pt x="11030" y="8251"/>
                  <a:pt x="11063" y="8235"/>
                </a:cubicBezTo>
                <a:cubicBezTo>
                  <a:pt x="10856" y="8235"/>
                  <a:pt x="10496" y="8465"/>
                  <a:pt x="10468" y="8260"/>
                </a:cubicBezTo>
                <a:cubicBezTo>
                  <a:pt x="10458" y="8189"/>
                  <a:pt x="10490" y="8120"/>
                  <a:pt x="10443" y="8062"/>
                </a:cubicBezTo>
                <a:cubicBezTo>
                  <a:pt x="10404" y="8014"/>
                  <a:pt x="10338" y="8012"/>
                  <a:pt x="10368" y="8012"/>
                </a:cubicBezTo>
                <a:cubicBezTo>
                  <a:pt x="10424" y="8012"/>
                  <a:pt x="10585" y="7984"/>
                  <a:pt x="10592" y="8037"/>
                </a:cubicBezTo>
                <a:cubicBezTo>
                  <a:pt x="10592" y="8045"/>
                  <a:pt x="10592" y="8054"/>
                  <a:pt x="10592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Appendicular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770960" y="6019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_x0012_05_06Figurea-L.jpg                                             004E43EE_x000c_EHAP_for_kym                   C37AF81A:"/>
          <p:cNvPicPr/>
          <p:nvPr/>
        </p:nvPicPr>
        <p:blipFill>
          <a:blip r:embed="rId1"/>
          <a:srcRect l="1514" t="1264" r="1482" b="3640"/>
          <a:stretch/>
        </p:blipFill>
        <p:spPr>
          <a:xfrm>
            <a:off x="2784600" y="1066680"/>
            <a:ext cx="3573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Appendicular Skeleton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770960" y="6019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6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_x0012_05_06Figureb-L.jpg                                             004E43EE_x000c_EHAP_for_kym                   C37AF81A:"/>
          <p:cNvPicPr/>
          <p:nvPr/>
        </p:nvPicPr>
        <p:blipFill>
          <a:blip r:embed="rId1"/>
          <a:srcRect l="0" t="1215" r="0" b="3571"/>
          <a:stretch/>
        </p:blipFill>
        <p:spPr>
          <a:xfrm>
            <a:off x="3027240" y="1066680"/>
            <a:ext cx="3087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The Pectoral (Shoulder) Girdl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Composed of two bone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avicle—collar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capula—shoulder </a:t>
            </a: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blad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These bones allow the upper limb to have exceptionally free movement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Shoulder Girdl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770600" y="6019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9" descr="_x0012_05_21Figurea-L.jpg                                             004E43EE_x000c_EHAP_for_kym                   C37AF81A:"/>
          <p:cNvPicPr/>
          <p:nvPr/>
        </p:nvPicPr>
        <p:blipFill>
          <a:blip r:embed="rId1"/>
          <a:srcRect l="1344" t="1165" r="1344" b="5906"/>
          <a:stretch/>
        </p:blipFill>
        <p:spPr>
          <a:xfrm>
            <a:off x="1676520" y="1066680"/>
            <a:ext cx="5790960" cy="49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Shoulder Girdl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770600" y="6019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_x0012_05_21Figureb-L.jpg                                             004E43EE_x000c_EHAP_for_kym                   C37AF81A:"/>
          <p:cNvPicPr/>
          <p:nvPr/>
        </p:nvPicPr>
        <p:blipFill>
          <a:blip r:embed="rId1"/>
          <a:srcRect l="1526" t="2218" r="1526" b="6994"/>
          <a:stretch/>
        </p:blipFill>
        <p:spPr>
          <a:xfrm>
            <a:off x="1257480" y="1143000"/>
            <a:ext cx="66294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Shoulder Girdle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7538400" y="6019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a12f"/>
                </a:solidFill>
                <a:latin typeface="Arial"/>
              </a:rPr>
              <a:t>Figure 5.21c–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8" descr="_x0014_05_21Figurec-d-L.jpg                                           004E43EE_x000c_EHAP_for_kym                   C37AF81A:"/>
          <p:cNvPicPr/>
          <p:nvPr/>
        </p:nvPicPr>
        <p:blipFill>
          <a:blip r:embed="rId1"/>
          <a:srcRect l="782" t="787" r="766" b="5836"/>
          <a:stretch/>
        </p:blipFill>
        <p:spPr>
          <a:xfrm>
            <a:off x="838080" y="1066680"/>
            <a:ext cx="746784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639a"/>
                </a:solidFill>
                <a:latin typeface="Arial"/>
              </a:rPr>
              <a:t>Bones of the Upper Limbs</a:t>
            </a:r>
            <a:endParaRPr b="1" lang="en-US" sz="2800" spc="-1" strike="noStrike">
              <a:solidFill>
                <a:srgbClr val="0a639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064880"/>
            <a:ext cx="7767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umerus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Forms the arm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-284040">
              <a:spcAft>
                <a:spcPts val="1500"/>
              </a:spcAft>
              <a:buClr>
                <a:srgbClr val="6ba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39a"/>
                </a:solidFill>
                <a:latin typeface="Arial"/>
              </a:rPr>
              <a:t>Single bone</a:t>
            </a: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  <a:p>
            <a:pPr lvl="1" marL="79524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a63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ataylor</cp:lastModifiedBy>
  <cp:lastPrinted>2001-01-06T03:20:03Z</cp:lastPrinted>
  <dcterms:modified xsi:type="dcterms:W3CDTF">2012-09-20T17:41:43Z</dcterms:modified>
  <cp:revision>267</cp:revision>
  <dc:subject/>
  <dc:title>Nerve activates contraction</dc:title>
</cp:coreProperties>
</file>