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16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820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16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820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16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3820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4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16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3820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c7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3" marL="187632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4" marL="240660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5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6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29400"/>
            <a:ext cx="914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Copyright © 2009 Pearson Education, Inc., publishing as Benjamin Cumming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324480"/>
            <a:ext cx="9144000" cy="152280"/>
            <a:chOff x="0" y="6324480"/>
            <a:chExt cx="9144000" cy="152280"/>
          </a:xfrm>
        </p:grpSpPr>
        <p:sp>
          <p:nvSpPr>
            <p:cNvPr id="5" name="Line 7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6ba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400800"/>
              <a:ext cx="91440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0" y="6476760"/>
              <a:ext cx="9144000" cy="0"/>
            </a:xfrm>
            <a:prstGeom prst="line">
              <a:avLst/>
            </a:prstGeom>
            <a:ln w="38160">
              <a:solidFill>
                <a:srgbClr val="0a63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Line 10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6ba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c7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c7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5334120" y="15228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Lecture Slide Presentation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y Patty Bostwick-Taylor,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lorence-Darlington Technical Colleg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5181480" y="6400800"/>
            <a:ext cx="3886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pyright © 2009 Pearson Education, Inc., publishing as Benjamin Cumming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0" y="5791320"/>
            <a:ext cx="9144000" cy="152280"/>
            <a:chOff x="0" y="5791320"/>
            <a:chExt cx="9144000" cy="152280"/>
          </a:xfrm>
        </p:grpSpPr>
        <p:sp>
          <p:nvSpPr>
            <p:cNvPr id="50" name="Line 8"/>
            <p:cNvSpPr/>
            <p:nvPr/>
          </p:nvSpPr>
          <p:spPr>
            <a:xfrm>
              <a:off x="0" y="5791320"/>
              <a:ext cx="9144000" cy="0"/>
            </a:xfrm>
            <a:prstGeom prst="line">
              <a:avLst/>
            </a:prstGeom>
            <a:ln w="38160">
              <a:solidFill>
                <a:srgbClr val="6ba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9"/>
            <p:cNvSpPr/>
            <p:nvPr/>
          </p:nvSpPr>
          <p:spPr>
            <a:xfrm>
              <a:off x="0" y="5867640"/>
              <a:ext cx="91440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0"/>
            <p:cNvSpPr/>
            <p:nvPr/>
          </p:nvSpPr>
          <p:spPr>
            <a:xfrm>
              <a:off x="0" y="5943600"/>
              <a:ext cx="9144000" cy="0"/>
            </a:xfrm>
            <a:prstGeom prst="line">
              <a:avLst/>
            </a:prstGeom>
            <a:ln w="38160">
              <a:solidFill>
                <a:srgbClr val="0a63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Picture 11" descr="51353Marieb9e_ecat"/>
          <p:cNvPicPr/>
          <p:nvPr/>
        </p:nvPicPr>
        <p:blipFill>
          <a:blip r:embed="rId2"/>
          <a:stretch/>
        </p:blipFill>
        <p:spPr>
          <a:xfrm>
            <a:off x="152280" y="228600"/>
            <a:ext cx="4953240" cy="63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2"/>
          <p:cNvSpPr/>
          <p:nvPr/>
        </p:nvSpPr>
        <p:spPr>
          <a:xfrm>
            <a:off x="7620120" y="54864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639a"/>
                </a:solidFill>
                <a:latin typeface="Arial"/>
              </a:rPr>
              <a:t>PART 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6095880" y="4648320"/>
            <a:ext cx="1828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0" spc="-1" strike="noStrike">
                <a:solidFill>
                  <a:srgbClr val="0a639a"/>
                </a:solidFill>
                <a:latin typeface="Arial"/>
              </a:rPr>
              <a:t>5</a:t>
            </a:r>
            <a:endParaRPr b="1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52280" y="228600"/>
            <a:ext cx="4953240" cy="632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3" marL="187632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4" marL="240660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5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6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3760" y="2490480"/>
            <a:ext cx="3276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639a"/>
                </a:solidFill>
                <a:latin typeface="Arial"/>
              </a:rPr>
              <a:t>The Skeletal System</a:t>
            </a:r>
            <a:endParaRPr b="1" lang="en-US" sz="32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The Vertebral Column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770960" y="6019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1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7" descr="_x0011_05_16Figure-L.jpg                                              004E43EE_x000c_EHAP_for_kym                   C37AF81A:"/>
          <p:cNvPicPr/>
          <p:nvPr/>
        </p:nvPicPr>
        <p:blipFill>
          <a:blip r:embed="rId1"/>
          <a:srcRect l="1689" t="1215" r="1662" b="5951"/>
          <a:stretch/>
        </p:blipFill>
        <p:spPr>
          <a:xfrm>
            <a:off x="1752480" y="1066680"/>
            <a:ext cx="56390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A Typical Vertebrae, Superior View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7770960" y="6019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1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8" descr="_x0011_05_17Figure-L.jpg                                              004E43EE_x000c_EHAP_for_kym                   C37AF81A:"/>
          <p:cNvPicPr/>
          <p:nvPr/>
        </p:nvPicPr>
        <p:blipFill>
          <a:blip r:embed="rId1"/>
          <a:srcRect l="1121" t="1121" r="1121" b="4693"/>
          <a:stretch/>
        </p:blipFill>
        <p:spPr>
          <a:xfrm>
            <a:off x="1962000" y="1066680"/>
            <a:ext cx="5220000" cy="50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Regional Characteristics of Vertebra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7770600" y="601992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18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6" descr="_x0012_05_18Figurea-L.jpg                                             004E43EE_x000c_EHAP_for_kym                   C37AF81A:"/>
          <p:cNvPicPr/>
          <p:nvPr/>
        </p:nvPicPr>
        <p:blipFill>
          <a:blip r:embed="rId1"/>
          <a:srcRect l="2757" t="2407" r="1574" b="5951"/>
          <a:stretch/>
        </p:blipFill>
        <p:spPr>
          <a:xfrm>
            <a:off x="1866960" y="1066680"/>
            <a:ext cx="541008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Regional Characteristics of Vertebra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770600" y="601992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18b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_x0012_05_18Figureb-L.jpg                                             004E43EE_x000c_EHAP_for_kym                   C37AF81A:"/>
          <p:cNvPicPr/>
          <p:nvPr/>
        </p:nvPicPr>
        <p:blipFill>
          <a:blip r:embed="rId1"/>
          <a:srcRect l="1606" t="1215" r="1580" b="7143"/>
          <a:stretch/>
        </p:blipFill>
        <p:spPr>
          <a:xfrm>
            <a:off x="1676520" y="1066680"/>
            <a:ext cx="5790960" cy="50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Regional Characteristics of Vertebra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7770600" y="601992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18c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7" descr="_x0012_05_18Figurec-L.jpg                                             004E43EE_x000c_EHAP_for_kym                   C37AF81A:"/>
          <p:cNvPicPr/>
          <p:nvPr/>
        </p:nvPicPr>
        <p:blipFill>
          <a:blip r:embed="rId1"/>
          <a:srcRect l="2476" t="2407" r="1286" b="5951"/>
          <a:stretch/>
        </p:blipFill>
        <p:spPr>
          <a:xfrm>
            <a:off x="1886040" y="1066680"/>
            <a:ext cx="53719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Regional Characteristics of Vertebra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770600" y="601992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18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6" descr="_x0012_05_18Figured-L.jpg                                             004E43EE_x000c_EHAP_for_kym                   C37AF81A:"/>
          <p:cNvPicPr/>
          <p:nvPr/>
        </p:nvPicPr>
        <p:blipFill>
          <a:blip r:embed="rId1"/>
          <a:srcRect l="1621" t="2407" r="1601" b="5951"/>
          <a:stretch/>
        </p:blipFill>
        <p:spPr>
          <a:xfrm>
            <a:off x="1504800" y="1066680"/>
            <a:ext cx="6134400" cy="51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Sacrum and Coccyx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crum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ed by the fusion of five vertebra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ccyx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ed from the fusion of three to five vertebra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ailbone,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remnant of a tail that other vertebrates hav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36" name="Ink 4"/>
          <p:cNvSpPr/>
          <p:nvPr/>
        </p:nvSpPr>
        <p:spPr>
          <a:xfrm>
            <a:off x="1581120" y="1751040"/>
            <a:ext cx="5464080" cy="231840"/>
          </a:xfrm>
          <a:custGeom>
            <a:avLst/>
            <a:gdLst/>
            <a:ahLst/>
            <a:rect l="l" t="t" r="r" b="b"/>
            <a:pathLst>
              <a:path w="15182" h="646">
                <a:moveTo>
                  <a:pt x="4390" y="4887"/>
                </a:moveTo>
                <a:cubicBezTo>
                  <a:pt x="5309" y="4887"/>
                  <a:pt x="6162" y="5054"/>
                  <a:pt x="7069" y="5135"/>
                </a:cubicBezTo>
                <a:cubicBezTo>
                  <a:pt x="7359" y="5161"/>
                  <a:pt x="7629" y="5051"/>
                  <a:pt x="7913" y="5011"/>
                </a:cubicBezTo>
                <a:cubicBezTo>
                  <a:pt x="8414" y="4940"/>
                  <a:pt x="8922" y="4961"/>
                  <a:pt x="9426" y="4961"/>
                </a:cubicBezTo>
                <a:cubicBezTo>
                  <a:pt x="10347" y="4961"/>
                  <a:pt x="11263" y="5021"/>
                  <a:pt x="12179" y="5035"/>
                </a:cubicBezTo>
                <a:cubicBezTo>
                  <a:pt x="14501" y="5072"/>
                  <a:pt x="17091" y="4735"/>
                  <a:pt x="19348" y="5060"/>
                </a:cubicBezTo>
                <a:cubicBezTo>
                  <a:pt x="19398" y="5067"/>
                  <a:pt x="19387" y="5068"/>
                  <a:pt x="19422" y="5085"/>
                </a:cubicBezTo>
                <a:cubicBezTo>
                  <a:pt x="19503" y="5123"/>
                  <a:pt x="19533" y="5095"/>
                  <a:pt x="19571" y="5159"/>
                </a:cubicBezTo>
                <a:cubicBezTo>
                  <a:pt x="19599" y="5206"/>
                  <a:pt x="19556" y="5304"/>
                  <a:pt x="19571" y="5358"/>
                </a:cubicBezTo>
                <a:cubicBezTo>
                  <a:pt x="19047" y="5358"/>
                  <a:pt x="18528" y="5339"/>
                  <a:pt x="18008" y="5333"/>
                </a:cubicBezTo>
                <a:cubicBezTo>
                  <a:pt x="17580" y="5328"/>
                  <a:pt x="17153" y="5333"/>
                  <a:pt x="16743" y="5383"/>
                </a:cubicBezTo>
                <a:cubicBezTo>
                  <a:pt x="16574" y="5403"/>
                  <a:pt x="16410" y="5464"/>
                  <a:pt x="16247" y="5482"/>
                </a:cubicBezTo>
                <a:cubicBezTo>
                  <a:pt x="15697" y="5543"/>
                  <a:pt x="15150" y="5418"/>
                  <a:pt x="14610" y="5407"/>
                </a:cubicBezTo>
                <a:cubicBezTo>
                  <a:pt x="14376" y="5402"/>
                  <a:pt x="14186" y="5367"/>
                  <a:pt x="13965" y="5358"/>
                </a:cubicBezTo>
                <a:cubicBezTo>
                  <a:pt x="13359" y="5334"/>
                  <a:pt x="12752" y="5309"/>
                  <a:pt x="12154" y="5283"/>
                </a:cubicBezTo>
                <a:cubicBezTo>
                  <a:pt x="12022" y="5277"/>
                  <a:pt x="11826" y="5263"/>
                  <a:pt x="11733" y="5259"/>
                </a:cubicBezTo>
                <a:cubicBezTo>
                  <a:pt x="11181" y="5236"/>
                  <a:pt x="10609" y="5200"/>
                  <a:pt x="10071" y="5283"/>
                </a:cubicBezTo>
                <a:cubicBezTo>
                  <a:pt x="9944" y="5303"/>
                  <a:pt x="9826" y="5337"/>
                  <a:pt x="9699" y="5358"/>
                </a:cubicBezTo>
                <a:cubicBezTo>
                  <a:pt x="9473" y="5396"/>
                  <a:pt x="9213" y="5395"/>
                  <a:pt x="8979" y="5383"/>
                </a:cubicBezTo>
                <a:cubicBezTo>
                  <a:pt x="8900" y="5379"/>
                  <a:pt x="8829" y="5364"/>
                  <a:pt x="8756" y="5358"/>
                </a:cubicBezTo>
                <a:cubicBezTo>
                  <a:pt x="8709" y="5354"/>
                  <a:pt x="8592" y="5334"/>
                  <a:pt x="8582" y="5333"/>
                </a:cubicBezTo>
                <a:cubicBezTo>
                  <a:pt x="8324" y="5317"/>
                  <a:pt x="8069" y="5329"/>
                  <a:pt x="7813" y="5308"/>
                </a:cubicBezTo>
                <a:cubicBezTo>
                  <a:pt x="7745" y="5302"/>
                  <a:pt x="7708" y="5286"/>
                  <a:pt x="7640" y="5283"/>
                </a:cubicBezTo>
                <a:cubicBezTo>
                  <a:pt x="7016" y="5259"/>
                  <a:pt x="6364" y="5310"/>
                  <a:pt x="5755" y="5259"/>
                </a:cubicBezTo>
                <a:cubicBezTo>
                  <a:pt x="5600" y="5246"/>
                  <a:pt x="5460" y="5227"/>
                  <a:pt x="5308" y="5209"/>
                </a:cubicBezTo>
                <a:cubicBezTo>
                  <a:pt x="5214" y="5198"/>
                  <a:pt x="5127" y="5194"/>
                  <a:pt x="5035" y="5184"/>
                </a:cubicBezTo>
                <a:cubicBezTo>
                  <a:pt x="4984" y="5178"/>
                  <a:pt x="4998" y="5162"/>
                  <a:pt x="4961" y="5159"/>
                </a:cubicBezTo>
                <a:cubicBezTo>
                  <a:pt x="4814" y="5148"/>
                  <a:pt x="4631" y="5200"/>
                  <a:pt x="4564" y="5209"/>
                </a:cubicBezTo>
                <a:cubicBezTo>
                  <a:pt x="4573" y="5211"/>
                  <a:pt x="4556" y="5257"/>
                  <a:pt x="4614" y="5259"/>
                </a:cubicBezTo>
                <a:cubicBezTo>
                  <a:pt x="5588" y="5291"/>
                  <a:pt x="6621" y="5340"/>
                  <a:pt x="7565" y="5234"/>
                </a:cubicBezTo>
                <a:cubicBezTo>
                  <a:pt x="7764" y="5212"/>
                  <a:pt x="7960" y="5192"/>
                  <a:pt x="8161" y="5184"/>
                </a:cubicBezTo>
                <a:cubicBezTo>
                  <a:pt x="9647" y="5127"/>
                  <a:pt x="11165" y="5200"/>
                  <a:pt x="12626" y="5110"/>
                </a:cubicBezTo>
                <a:cubicBezTo>
                  <a:pt x="13820" y="5036"/>
                  <a:pt x="15090" y="5100"/>
                  <a:pt x="16272" y="5135"/>
                </a:cubicBezTo>
                <a:cubicBezTo>
                  <a:pt x="17034" y="5158"/>
                  <a:pt x="17794" y="5110"/>
                  <a:pt x="18554" y="5110"/>
                </a:cubicBezTo>
                <a:cubicBezTo>
                  <a:pt x="18742" y="5110"/>
                  <a:pt x="19001" y="5128"/>
                  <a:pt x="19149" y="5135"/>
                </a:cubicBezTo>
                <a:cubicBezTo>
                  <a:pt x="19202" y="5138"/>
                  <a:pt x="19221" y="5130"/>
                  <a:pt x="19273" y="5135"/>
                </a:cubicBezTo>
                <a:cubicBezTo>
                  <a:pt x="19259" y="5125"/>
                  <a:pt x="19267" y="5070"/>
                  <a:pt x="19248" y="5060"/>
                </a:cubicBezTo>
                <a:cubicBezTo>
                  <a:pt x="19156" y="5012"/>
                  <a:pt x="19131" y="4981"/>
                  <a:pt x="19025" y="4961"/>
                </a:cubicBezTo>
                <a:cubicBezTo>
                  <a:pt x="17726" y="4711"/>
                  <a:pt x="16146" y="4992"/>
                  <a:pt x="14833" y="4936"/>
                </a:cubicBezTo>
                <a:cubicBezTo>
                  <a:pt x="14367" y="4916"/>
                  <a:pt x="13907" y="4956"/>
                  <a:pt x="13444" y="4961"/>
                </a:cubicBezTo>
                <a:cubicBezTo>
                  <a:pt x="13063" y="4965"/>
                  <a:pt x="12666" y="4935"/>
                  <a:pt x="12328" y="4911"/>
                </a:cubicBezTo>
                <a:cubicBezTo>
                  <a:pt x="12021" y="4890"/>
                  <a:pt x="11708" y="4896"/>
                  <a:pt x="11410" y="4887"/>
                </a:cubicBezTo>
                <a:cubicBezTo>
                  <a:pt x="10928" y="4872"/>
                  <a:pt x="10445" y="4896"/>
                  <a:pt x="9971" y="4911"/>
                </a:cubicBezTo>
                <a:cubicBezTo>
                  <a:pt x="9721" y="4919"/>
                  <a:pt x="9474" y="4928"/>
                  <a:pt x="9227" y="4936"/>
                </a:cubicBezTo>
                <a:cubicBezTo>
                  <a:pt x="8981" y="4944"/>
                  <a:pt x="8739" y="4868"/>
                  <a:pt x="8508" y="4887"/>
                </a:cubicBezTo>
                <a:cubicBezTo>
                  <a:pt x="8348" y="4900"/>
                  <a:pt x="8206" y="4956"/>
                  <a:pt x="8037" y="4961"/>
                </a:cubicBezTo>
                <a:cubicBezTo>
                  <a:pt x="7510" y="4978"/>
                  <a:pt x="6990" y="4942"/>
                  <a:pt x="6474" y="4936"/>
                </a:cubicBezTo>
                <a:cubicBezTo>
                  <a:pt x="6148" y="4932"/>
                  <a:pt x="5761" y="4873"/>
                  <a:pt x="5482" y="4887"/>
                </a:cubicBezTo>
                <a:cubicBezTo>
                  <a:pt x="5421" y="4890"/>
                  <a:pt x="5374" y="4845"/>
                  <a:pt x="5333" y="4862"/>
                </a:cubicBezTo>
                <a:cubicBezTo>
                  <a:pt x="5298" y="4877"/>
                  <a:pt x="5235" y="5019"/>
                  <a:pt x="5209" y="5035"/>
                </a:cubicBezTo>
                <a:cubicBezTo>
                  <a:pt x="5186" y="5049"/>
                  <a:pt x="5178" y="5103"/>
                  <a:pt x="5159" y="5110"/>
                </a:cubicBezTo>
                <a:cubicBezTo>
                  <a:pt x="5006" y="5170"/>
                  <a:pt x="4779" y="5140"/>
                  <a:pt x="4614" y="5159"/>
                </a:cubicBezTo>
                <a:cubicBezTo>
                  <a:pt x="4545" y="5167"/>
                  <a:pt x="4511" y="5083"/>
                  <a:pt x="4465" y="5135"/>
                </a:cubicBezTo>
                <a:cubicBezTo>
                  <a:pt x="4434" y="5170"/>
                  <a:pt x="4484" y="5288"/>
                  <a:pt x="4465" y="5333"/>
                </a:cubicBezTo>
                <a:cubicBezTo>
                  <a:pt x="4441" y="5276"/>
                  <a:pt x="4434" y="5268"/>
                  <a:pt x="4415" y="5234"/>
                </a:cubicBezTo>
                <a:cubicBezTo>
                  <a:pt x="4400" y="5208"/>
                  <a:pt x="4407" y="5162"/>
                  <a:pt x="4390" y="5135"/>
                </a:cubicBezTo>
                <a:cubicBezTo>
                  <a:pt x="4390" y="5159"/>
                  <a:pt x="4390" y="5168"/>
                  <a:pt x="4390" y="5184"/>
                </a:cubicBezTo>
                <a:cubicBezTo>
                  <a:pt x="4401" y="5231"/>
                  <a:pt x="4410" y="5314"/>
                  <a:pt x="4415" y="5333"/>
                </a:cubicBezTo>
                <a:cubicBezTo>
                  <a:pt x="4425" y="5369"/>
                  <a:pt x="4428" y="5360"/>
                  <a:pt x="4440" y="5407"/>
                </a:cubicBezTo>
                <a:cubicBezTo>
                  <a:pt x="4449" y="5444"/>
                  <a:pt x="4461" y="5496"/>
                  <a:pt x="4465" y="5507"/>
                </a:cubicBezTo>
                <a:cubicBezTo>
                  <a:pt x="4681" y="5491"/>
                  <a:pt x="4891" y="5484"/>
                  <a:pt x="5110" y="5482"/>
                </a:cubicBezTo>
                <a:cubicBezTo>
                  <a:pt x="8110" y="5449"/>
                  <a:pt x="11166" y="5653"/>
                  <a:pt x="14139" y="5407"/>
                </a:cubicBezTo>
                <a:cubicBezTo>
                  <a:pt x="14218" y="5400"/>
                  <a:pt x="14301" y="5386"/>
                  <a:pt x="14387" y="5383"/>
                </a:cubicBezTo>
                <a:cubicBezTo>
                  <a:pt x="14767" y="5369"/>
                  <a:pt x="15132" y="5342"/>
                  <a:pt x="15503" y="5308"/>
                </a:cubicBezTo>
                <a:cubicBezTo>
                  <a:pt x="15717" y="5289"/>
                  <a:pt x="15932" y="5285"/>
                  <a:pt x="16148" y="5283"/>
                </a:cubicBezTo>
                <a:cubicBezTo>
                  <a:pt x="17033" y="5274"/>
                  <a:pt x="17918" y="5259"/>
                  <a:pt x="18802" y="5259"/>
                </a:cubicBezTo>
                <a:cubicBezTo>
                  <a:pt x="18860" y="5259"/>
                  <a:pt x="18918" y="5259"/>
                  <a:pt x="18976" y="525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Ink 5"/>
          <p:cNvSpPr/>
          <p:nvPr/>
        </p:nvSpPr>
        <p:spPr>
          <a:xfrm>
            <a:off x="1581120" y="2803680"/>
            <a:ext cx="5572080" cy="268200"/>
          </a:xfrm>
          <a:custGeom>
            <a:avLst/>
            <a:gdLst/>
            <a:ahLst/>
            <a:rect l="l" t="t" r="r" b="b"/>
            <a:pathLst>
              <a:path w="15480" h="745">
                <a:moveTo>
                  <a:pt x="19819" y="7789"/>
                </a:moveTo>
                <a:cubicBezTo>
                  <a:pt x="19709" y="7800"/>
                  <a:pt x="19601" y="7818"/>
                  <a:pt x="19496" y="7838"/>
                </a:cubicBezTo>
                <a:cubicBezTo>
                  <a:pt x="19395" y="7857"/>
                  <a:pt x="19296" y="7875"/>
                  <a:pt x="19199" y="7888"/>
                </a:cubicBezTo>
                <a:cubicBezTo>
                  <a:pt x="19096" y="7902"/>
                  <a:pt x="19010" y="7908"/>
                  <a:pt x="18901" y="7913"/>
                </a:cubicBezTo>
                <a:cubicBezTo>
                  <a:pt x="17913" y="7962"/>
                  <a:pt x="16906" y="7924"/>
                  <a:pt x="15925" y="7962"/>
                </a:cubicBezTo>
                <a:cubicBezTo>
                  <a:pt x="15614" y="7974"/>
                  <a:pt x="15314" y="7925"/>
                  <a:pt x="15007" y="7913"/>
                </a:cubicBezTo>
                <a:cubicBezTo>
                  <a:pt x="13531" y="7855"/>
                  <a:pt x="12041" y="7888"/>
                  <a:pt x="10567" y="7888"/>
                </a:cubicBezTo>
                <a:cubicBezTo>
                  <a:pt x="9533" y="7888"/>
                  <a:pt x="8489" y="7855"/>
                  <a:pt x="7466" y="7888"/>
                </a:cubicBezTo>
                <a:cubicBezTo>
                  <a:pt x="6868" y="7907"/>
                  <a:pt x="6270" y="7950"/>
                  <a:pt x="5680" y="7962"/>
                </a:cubicBezTo>
                <a:cubicBezTo>
                  <a:pt x="5451" y="7967"/>
                  <a:pt x="5206" y="7982"/>
                  <a:pt x="4986" y="7938"/>
                </a:cubicBezTo>
                <a:cubicBezTo>
                  <a:pt x="4923" y="7925"/>
                  <a:pt x="4874" y="7906"/>
                  <a:pt x="4812" y="7888"/>
                </a:cubicBezTo>
                <a:cubicBezTo>
                  <a:pt x="4752" y="7871"/>
                  <a:pt x="4770" y="7878"/>
                  <a:pt x="4713" y="7863"/>
                </a:cubicBezTo>
                <a:cubicBezTo>
                  <a:pt x="4699" y="7859"/>
                  <a:pt x="4664" y="7817"/>
                  <a:pt x="4638" y="7813"/>
                </a:cubicBezTo>
                <a:cubicBezTo>
                  <a:pt x="4557" y="7802"/>
                  <a:pt x="4472" y="7820"/>
                  <a:pt x="4390" y="7813"/>
                </a:cubicBezTo>
                <a:cubicBezTo>
                  <a:pt x="4396" y="7922"/>
                  <a:pt x="4357" y="8122"/>
                  <a:pt x="4415" y="8210"/>
                </a:cubicBezTo>
                <a:cubicBezTo>
                  <a:pt x="4486" y="8318"/>
                  <a:pt x="4421" y="8260"/>
                  <a:pt x="4539" y="8310"/>
                </a:cubicBezTo>
                <a:cubicBezTo>
                  <a:pt x="4814" y="8427"/>
                  <a:pt x="5381" y="8308"/>
                  <a:pt x="5680" y="8334"/>
                </a:cubicBezTo>
                <a:cubicBezTo>
                  <a:pt x="5723" y="8338"/>
                  <a:pt x="5798" y="8356"/>
                  <a:pt x="5854" y="8359"/>
                </a:cubicBezTo>
                <a:cubicBezTo>
                  <a:pt x="6468" y="8396"/>
                  <a:pt x="7108" y="8370"/>
                  <a:pt x="7714" y="8310"/>
                </a:cubicBezTo>
                <a:cubicBezTo>
                  <a:pt x="7879" y="8294"/>
                  <a:pt x="8043" y="8287"/>
                  <a:pt x="8210" y="8285"/>
                </a:cubicBezTo>
                <a:cubicBezTo>
                  <a:pt x="8334" y="8284"/>
                  <a:pt x="8475" y="8269"/>
                  <a:pt x="8582" y="8260"/>
                </a:cubicBezTo>
                <a:cubicBezTo>
                  <a:pt x="8822" y="8240"/>
                  <a:pt x="9060" y="8249"/>
                  <a:pt x="9302" y="8235"/>
                </a:cubicBezTo>
                <a:cubicBezTo>
                  <a:pt x="9451" y="8226"/>
                  <a:pt x="9601" y="8199"/>
                  <a:pt x="9748" y="8186"/>
                </a:cubicBezTo>
                <a:cubicBezTo>
                  <a:pt x="9977" y="8166"/>
                  <a:pt x="10207" y="8161"/>
                  <a:pt x="10443" y="8161"/>
                </a:cubicBezTo>
                <a:cubicBezTo>
                  <a:pt x="10972" y="8161"/>
                  <a:pt x="11482" y="8159"/>
                  <a:pt x="12005" y="8111"/>
                </a:cubicBezTo>
                <a:cubicBezTo>
                  <a:pt x="12254" y="8088"/>
                  <a:pt x="12500" y="8070"/>
                  <a:pt x="12750" y="8062"/>
                </a:cubicBezTo>
                <a:cubicBezTo>
                  <a:pt x="13641" y="8033"/>
                  <a:pt x="14546" y="8030"/>
                  <a:pt x="15429" y="8136"/>
                </a:cubicBezTo>
                <a:cubicBezTo>
                  <a:pt x="15658" y="8164"/>
                  <a:pt x="15897" y="8199"/>
                  <a:pt x="16123" y="8210"/>
                </a:cubicBezTo>
                <a:cubicBezTo>
                  <a:pt x="16775" y="8241"/>
                  <a:pt x="17435" y="8233"/>
                  <a:pt x="18083" y="8260"/>
                </a:cubicBezTo>
                <a:cubicBezTo>
                  <a:pt x="18371" y="8272"/>
                  <a:pt x="19524" y="8430"/>
                  <a:pt x="19819" y="8235"/>
                </a:cubicBezTo>
                <a:cubicBezTo>
                  <a:pt x="19846" y="8217"/>
                  <a:pt x="19848" y="8204"/>
                  <a:pt x="19869" y="8186"/>
                </a:cubicBezTo>
                <a:cubicBezTo>
                  <a:pt x="19886" y="8172"/>
                  <a:pt x="19853" y="8101"/>
                  <a:pt x="19869" y="8086"/>
                </a:cubicBezTo>
                <a:cubicBezTo>
                  <a:pt x="19818" y="8082"/>
                  <a:pt x="19831" y="8064"/>
                  <a:pt x="19794" y="8062"/>
                </a:cubicBezTo>
                <a:cubicBezTo>
                  <a:pt x="19456" y="8044"/>
                  <a:pt x="19155" y="8121"/>
                  <a:pt x="18827" y="8161"/>
                </a:cubicBezTo>
                <a:cubicBezTo>
                  <a:pt x="18713" y="8175"/>
                  <a:pt x="18594" y="8203"/>
                  <a:pt x="18479" y="8210"/>
                </a:cubicBezTo>
                <a:cubicBezTo>
                  <a:pt x="17713" y="8259"/>
                  <a:pt x="16932" y="8326"/>
                  <a:pt x="16173" y="8334"/>
                </a:cubicBezTo>
                <a:cubicBezTo>
                  <a:pt x="15073" y="8345"/>
                  <a:pt x="13972" y="8359"/>
                  <a:pt x="12874" y="8359"/>
                </a:cubicBezTo>
                <a:cubicBezTo>
                  <a:pt x="12212" y="8359"/>
                  <a:pt x="11455" y="8472"/>
                  <a:pt x="10815" y="8310"/>
                </a:cubicBezTo>
                <a:cubicBezTo>
                  <a:pt x="10630" y="8263"/>
                  <a:pt x="10461" y="8189"/>
                  <a:pt x="10269" y="8161"/>
                </a:cubicBezTo>
                <a:cubicBezTo>
                  <a:pt x="10089" y="8134"/>
                  <a:pt x="10009" y="8143"/>
                  <a:pt x="9823" y="8186"/>
                </a:cubicBezTo>
                <a:cubicBezTo>
                  <a:pt x="9555" y="8248"/>
                  <a:pt x="9304" y="8322"/>
                  <a:pt x="9029" y="8359"/>
                </a:cubicBezTo>
                <a:cubicBezTo>
                  <a:pt x="8900" y="8376"/>
                  <a:pt x="8818" y="8380"/>
                  <a:pt x="8682" y="8359"/>
                </a:cubicBezTo>
                <a:cubicBezTo>
                  <a:pt x="8523" y="8334"/>
                  <a:pt x="8282" y="8289"/>
                  <a:pt x="8136" y="8235"/>
                </a:cubicBezTo>
                <a:cubicBezTo>
                  <a:pt x="8006" y="8187"/>
                  <a:pt x="7901" y="8114"/>
                  <a:pt x="7764" y="8086"/>
                </a:cubicBezTo>
                <a:cubicBezTo>
                  <a:pt x="7671" y="8067"/>
                  <a:pt x="7586" y="8069"/>
                  <a:pt x="7491" y="8062"/>
                </a:cubicBezTo>
                <a:cubicBezTo>
                  <a:pt x="6992" y="8025"/>
                  <a:pt x="6180" y="8062"/>
                  <a:pt x="5854" y="8062"/>
                </a:cubicBezTo>
                <a:cubicBezTo>
                  <a:pt x="6029" y="8079"/>
                  <a:pt x="6227" y="8077"/>
                  <a:pt x="6400" y="8111"/>
                </a:cubicBezTo>
                <a:cubicBezTo>
                  <a:pt x="6586" y="8147"/>
                  <a:pt x="6761" y="8179"/>
                  <a:pt x="6945" y="8210"/>
                </a:cubicBezTo>
                <a:cubicBezTo>
                  <a:pt x="7026" y="8224"/>
                  <a:pt x="7113" y="8255"/>
                  <a:pt x="7193" y="8260"/>
                </a:cubicBezTo>
                <a:cubicBezTo>
                  <a:pt x="7403" y="8274"/>
                  <a:pt x="7604" y="8288"/>
                  <a:pt x="7813" y="8310"/>
                </a:cubicBezTo>
                <a:cubicBezTo>
                  <a:pt x="7921" y="8321"/>
                  <a:pt x="8033" y="8346"/>
                  <a:pt x="8136" y="8359"/>
                </a:cubicBezTo>
                <a:cubicBezTo>
                  <a:pt x="8603" y="8417"/>
                  <a:pt x="9103" y="8405"/>
                  <a:pt x="9575" y="8409"/>
                </a:cubicBezTo>
                <a:cubicBezTo>
                  <a:pt x="10214" y="8415"/>
                  <a:pt x="10856" y="8387"/>
                  <a:pt x="11485" y="8458"/>
                </a:cubicBezTo>
                <a:cubicBezTo>
                  <a:pt x="11592" y="8470"/>
                  <a:pt x="11699" y="8471"/>
                  <a:pt x="11807" y="8483"/>
                </a:cubicBezTo>
                <a:cubicBezTo>
                  <a:pt x="11891" y="8492"/>
                  <a:pt x="11971" y="8499"/>
                  <a:pt x="12055" y="8508"/>
                </a:cubicBezTo>
                <a:cubicBezTo>
                  <a:pt x="12118" y="8514"/>
                  <a:pt x="12164" y="8530"/>
                  <a:pt x="12229" y="8533"/>
                </a:cubicBezTo>
                <a:cubicBezTo>
                  <a:pt x="13816" y="8596"/>
                  <a:pt x="15407" y="8508"/>
                  <a:pt x="16991" y="8508"/>
                </a:cubicBezTo>
                <a:cubicBezTo>
                  <a:pt x="17886" y="8508"/>
                  <a:pt x="18838" y="8589"/>
                  <a:pt x="19720" y="8483"/>
                </a:cubicBezTo>
                <a:cubicBezTo>
                  <a:pt x="19765" y="8478"/>
                  <a:pt x="19800" y="8464"/>
                  <a:pt x="19844" y="8458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Ink 6"/>
          <p:cNvSpPr/>
          <p:nvPr/>
        </p:nvSpPr>
        <p:spPr>
          <a:xfrm>
            <a:off x="1677960" y="3741840"/>
            <a:ext cx="5796000" cy="295200"/>
          </a:xfrm>
          <a:custGeom>
            <a:avLst/>
            <a:gdLst/>
            <a:ahLst/>
            <a:rect l="l" t="t" r="r" b="b"/>
            <a:pathLst>
              <a:path w="16100" h="820">
                <a:moveTo>
                  <a:pt x="4663" y="10567"/>
                </a:moveTo>
                <a:cubicBezTo>
                  <a:pt x="4745" y="10553"/>
                  <a:pt x="4827" y="10528"/>
                  <a:pt x="4911" y="10517"/>
                </a:cubicBezTo>
                <a:cubicBezTo>
                  <a:pt x="5315" y="10464"/>
                  <a:pt x="5727" y="10506"/>
                  <a:pt x="6127" y="10517"/>
                </a:cubicBezTo>
                <a:cubicBezTo>
                  <a:pt x="6470" y="10527"/>
                  <a:pt x="6802" y="10570"/>
                  <a:pt x="7144" y="10592"/>
                </a:cubicBezTo>
                <a:cubicBezTo>
                  <a:pt x="7272" y="10600"/>
                  <a:pt x="7413" y="10637"/>
                  <a:pt x="7541" y="10641"/>
                </a:cubicBezTo>
                <a:cubicBezTo>
                  <a:pt x="8824" y="10684"/>
                  <a:pt x="10105" y="10601"/>
                  <a:pt x="11385" y="10592"/>
                </a:cubicBezTo>
                <a:cubicBezTo>
                  <a:pt x="11950" y="10588"/>
                  <a:pt x="12508" y="10546"/>
                  <a:pt x="13072" y="10542"/>
                </a:cubicBezTo>
                <a:cubicBezTo>
                  <a:pt x="13510" y="10539"/>
                  <a:pt x="13956" y="10564"/>
                  <a:pt x="14387" y="10517"/>
                </a:cubicBezTo>
                <a:cubicBezTo>
                  <a:pt x="14863" y="10464"/>
                  <a:pt x="15342" y="10350"/>
                  <a:pt x="15825" y="10393"/>
                </a:cubicBezTo>
                <a:cubicBezTo>
                  <a:pt x="15946" y="10404"/>
                  <a:pt x="16059" y="10475"/>
                  <a:pt x="16173" y="10492"/>
                </a:cubicBezTo>
                <a:cubicBezTo>
                  <a:pt x="16422" y="10530"/>
                  <a:pt x="16670" y="10537"/>
                  <a:pt x="16917" y="10592"/>
                </a:cubicBezTo>
                <a:cubicBezTo>
                  <a:pt x="16985" y="10607"/>
                  <a:pt x="17081" y="10661"/>
                  <a:pt x="17140" y="10666"/>
                </a:cubicBezTo>
                <a:cubicBezTo>
                  <a:pt x="17460" y="10692"/>
                  <a:pt x="17786" y="10619"/>
                  <a:pt x="18107" y="10616"/>
                </a:cubicBezTo>
                <a:cubicBezTo>
                  <a:pt x="18531" y="10612"/>
                  <a:pt x="18952" y="10630"/>
                  <a:pt x="19372" y="10641"/>
                </a:cubicBezTo>
                <a:cubicBezTo>
                  <a:pt x="19615" y="10647"/>
                  <a:pt x="19857" y="10635"/>
                  <a:pt x="20092" y="10616"/>
                </a:cubicBezTo>
                <a:cubicBezTo>
                  <a:pt x="20154" y="10611"/>
                  <a:pt x="20240" y="10595"/>
                  <a:pt x="20315" y="10592"/>
                </a:cubicBezTo>
                <a:cubicBezTo>
                  <a:pt x="20425" y="10588"/>
                  <a:pt x="20591" y="10578"/>
                  <a:pt x="20662" y="10616"/>
                </a:cubicBezTo>
                <a:cubicBezTo>
                  <a:pt x="20734" y="10655"/>
                  <a:pt x="20710" y="10673"/>
                  <a:pt x="20762" y="10716"/>
                </a:cubicBezTo>
                <a:cubicBezTo>
                  <a:pt x="20762" y="10740"/>
                  <a:pt x="20762" y="10749"/>
                  <a:pt x="20762" y="10765"/>
                </a:cubicBezTo>
                <a:cubicBezTo>
                  <a:pt x="20751" y="10768"/>
                  <a:pt x="20751" y="10836"/>
                  <a:pt x="20662" y="10840"/>
                </a:cubicBezTo>
                <a:cubicBezTo>
                  <a:pt x="20489" y="10848"/>
                  <a:pt x="20277" y="10838"/>
                  <a:pt x="20141" y="10864"/>
                </a:cubicBezTo>
                <a:cubicBezTo>
                  <a:pt x="19998" y="10891"/>
                  <a:pt x="19914" y="10928"/>
                  <a:pt x="19769" y="10964"/>
                </a:cubicBezTo>
                <a:cubicBezTo>
                  <a:pt x="19678" y="10987"/>
                  <a:pt x="19589" y="11003"/>
                  <a:pt x="19496" y="11013"/>
                </a:cubicBezTo>
                <a:cubicBezTo>
                  <a:pt x="18676" y="11097"/>
                  <a:pt x="17808" y="11038"/>
                  <a:pt x="16991" y="11038"/>
                </a:cubicBezTo>
                <a:cubicBezTo>
                  <a:pt x="16299" y="11038"/>
                  <a:pt x="15620" y="11090"/>
                  <a:pt x="14932" y="11137"/>
                </a:cubicBezTo>
                <a:cubicBezTo>
                  <a:pt x="14806" y="11146"/>
                  <a:pt x="14693" y="11204"/>
                  <a:pt x="14585" y="11212"/>
                </a:cubicBezTo>
                <a:cubicBezTo>
                  <a:pt x="14171" y="11245"/>
                  <a:pt x="13772" y="11165"/>
                  <a:pt x="13370" y="11112"/>
                </a:cubicBezTo>
                <a:cubicBezTo>
                  <a:pt x="13327" y="11106"/>
                  <a:pt x="13340" y="11093"/>
                  <a:pt x="13271" y="11088"/>
                </a:cubicBezTo>
                <a:cubicBezTo>
                  <a:pt x="12367" y="11021"/>
                  <a:pt x="11443" y="11128"/>
                  <a:pt x="10542" y="11063"/>
                </a:cubicBezTo>
                <a:cubicBezTo>
                  <a:pt x="10485" y="11059"/>
                  <a:pt x="10440" y="11041"/>
                  <a:pt x="10393" y="11038"/>
                </a:cubicBezTo>
                <a:cubicBezTo>
                  <a:pt x="10087" y="11021"/>
                  <a:pt x="9798" y="10999"/>
                  <a:pt x="9500" y="10914"/>
                </a:cubicBezTo>
                <a:cubicBezTo>
                  <a:pt x="9375" y="10878"/>
                  <a:pt x="9251" y="10844"/>
                  <a:pt x="9128" y="10815"/>
                </a:cubicBezTo>
                <a:cubicBezTo>
                  <a:pt x="9074" y="10802"/>
                  <a:pt x="9074" y="10775"/>
                  <a:pt x="8979" y="10765"/>
                </a:cubicBezTo>
                <a:cubicBezTo>
                  <a:pt x="8053" y="10666"/>
                  <a:pt x="7057" y="10767"/>
                  <a:pt x="6127" y="10740"/>
                </a:cubicBezTo>
                <a:cubicBezTo>
                  <a:pt x="5887" y="10733"/>
                  <a:pt x="5640" y="10733"/>
                  <a:pt x="5407" y="10716"/>
                </a:cubicBezTo>
                <a:cubicBezTo>
                  <a:pt x="5366" y="10713"/>
                  <a:pt x="5349" y="10693"/>
                  <a:pt x="5308" y="10691"/>
                </a:cubicBezTo>
                <a:cubicBezTo>
                  <a:pt x="5111" y="10679"/>
                  <a:pt x="4910" y="10691"/>
                  <a:pt x="4713" y="10691"/>
                </a:cubicBezTo>
                <a:cubicBezTo>
                  <a:pt x="4732" y="10720"/>
                  <a:pt x="4720" y="10729"/>
                  <a:pt x="4738" y="10765"/>
                </a:cubicBezTo>
                <a:cubicBezTo>
                  <a:pt x="4756" y="10802"/>
                  <a:pt x="4728" y="10841"/>
                  <a:pt x="4762" y="10864"/>
                </a:cubicBezTo>
                <a:cubicBezTo>
                  <a:pt x="4822" y="10905"/>
                  <a:pt x="4726" y="10909"/>
                  <a:pt x="4812" y="10939"/>
                </a:cubicBezTo>
                <a:cubicBezTo>
                  <a:pt x="5006" y="11006"/>
                  <a:pt x="5373" y="11000"/>
                  <a:pt x="5581" y="11013"/>
                </a:cubicBezTo>
                <a:cubicBezTo>
                  <a:pt x="5789" y="11026"/>
                  <a:pt x="6025" y="11032"/>
                  <a:pt x="6226" y="11038"/>
                </a:cubicBezTo>
                <a:cubicBezTo>
                  <a:pt x="6576" y="11048"/>
                  <a:pt x="6918" y="10994"/>
                  <a:pt x="7268" y="10988"/>
                </a:cubicBezTo>
                <a:cubicBezTo>
                  <a:pt x="7560" y="10983"/>
                  <a:pt x="7849" y="10997"/>
                  <a:pt x="8136" y="10964"/>
                </a:cubicBezTo>
                <a:cubicBezTo>
                  <a:pt x="8568" y="10914"/>
                  <a:pt x="8993" y="10900"/>
                  <a:pt x="9426" y="10864"/>
                </a:cubicBezTo>
                <a:cubicBezTo>
                  <a:pt x="9705" y="10841"/>
                  <a:pt x="9966" y="10769"/>
                  <a:pt x="10244" y="10716"/>
                </a:cubicBezTo>
                <a:cubicBezTo>
                  <a:pt x="10592" y="10650"/>
                  <a:pt x="10936" y="10622"/>
                  <a:pt x="11286" y="10592"/>
                </a:cubicBezTo>
                <a:cubicBezTo>
                  <a:pt x="11326" y="10589"/>
                  <a:pt x="11341" y="10569"/>
                  <a:pt x="11385" y="10567"/>
                </a:cubicBezTo>
                <a:cubicBezTo>
                  <a:pt x="11642" y="10556"/>
                  <a:pt x="11858" y="10643"/>
                  <a:pt x="12105" y="10666"/>
                </a:cubicBezTo>
                <a:cubicBezTo>
                  <a:pt x="12966" y="10745"/>
                  <a:pt x="14026" y="10773"/>
                  <a:pt x="14833" y="10716"/>
                </a:cubicBezTo>
                <a:cubicBezTo>
                  <a:pt x="15094" y="10697"/>
                  <a:pt x="15330" y="10583"/>
                  <a:pt x="15602" y="10567"/>
                </a:cubicBezTo>
                <a:cubicBezTo>
                  <a:pt x="15821" y="10555"/>
                  <a:pt x="16070" y="10567"/>
                  <a:pt x="16272" y="10592"/>
                </a:cubicBezTo>
                <a:cubicBezTo>
                  <a:pt x="16376" y="10605"/>
                  <a:pt x="16489" y="10625"/>
                  <a:pt x="16594" y="10641"/>
                </a:cubicBezTo>
                <a:cubicBezTo>
                  <a:pt x="16681" y="10655"/>
                  <a:pt x="16777" y="10685"/>
                  <a:pt x="16867" y="10691"/>
                </a:cubicBezTo>
                <a:cubicBezTo>
                  <a:pt x="17483" y="10731"/>
                  <a:pt x="18117" y="10710"/>
                  <a:pt x="18728" y="10716"/>
                </a:cubicBezTo>
                <a:cubicBezTo>
                  <a:pt x="19037" y="10719"/>
                  <a:pt x="19352" y="10734"/>
                  <a:pt x="19645" y="10790"/>
                </a:cubicBezTo>
                <a:cubicBezTo>
                  <a:pt x="19662" y="10798"/>
                  <a:pt x="19678" y="10807"/>
                  <a:pt x="19695" y="10815"/>
                </a:cubicBezTo>
                <a:cubicBezTo>
                  <a:pt x="19645" y="10815"/>
                  <a:pt x="19695" y="10815"/>
                  <a:pt x="19645" y="10815"/>
                </a:cubicBezTo>
                <a:cubicBezTo>
                  <a:pt x="19323" y="10815"/>
                  <a:pt x="19018" y="10816"/>
                  <a:pt x="18703" y="10765"/>
                </a:cubicBezTo>
                <a:cubicBezTo>
                  <a:pt x="18609" y="10750"/>
                  <a:pt x="18496" y="10737"/>
                  <a:pt x="18405" y="10716"/>
                </a:cubicBezTo>
                <a:cubicBezTo>
                  <a:pt x="18174" y="10662"/>
                  <a:pt x="18170" y="10659"/>
                  <a:pt x="17934" y="10716"/>
                </a:cubicBezTo>
                <a:cubicBezTo>
                  <a:pt x="17788" y="10751"/>
                  <a:pt x="17666" y="10801"/>
                  <a:pt x="17512" y="10815"/>
                </a:cubicBezTo>
                <a:cubicBezTo>
                  <a:pt x="17176" y="10846"/>
                  <a:pt x="16741" y="10799"/>
                  <a:pt x="16446" y="10790"/>
                </a:cubicBezTo>
                <a:cubicBezTo>
                  <a:pt x="16077" y="10779"/>
                  <a:pt x="15720" y="10849"/>
                  <a:pt x="15354" y="10864"/>
                </a:cubicBezTo>
                <a:cubicBezTo>
                  <a:pt x="13699" y="10931"/>
                  <a:pt x="12012" y="10730"/>
                  <a:pt x="10368" y="10914"/>
                </a:cubicBezTo>
                <a:cubicBezTo>
                  <a:pt x="9960" y="10960"/>
                  <a:pt x="9541" y="10939"/>
                  <a:pt x="9128" y="1093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Ink 7"/>
          <p:cNvSpPr/>
          <p:nvPr/>
        </p:nvSpPr>
        <p:spPr>
          <a:xfrm>
            <a:off x="1608120" y="4143240"/>
            <a:ext cx="2384280" cy="162000"/>
          </a:xfrm>
          <a:custGeom>
            <a:avLst/>
            <a:gdLst/>
            <a:ahLst/>
            <a:rect l="l" t="t" r="r" b="b"/>
            <a:pathLst>
              <a:path w="6624" h="448">
                <a:moveTo>
                  <a:pt x="4539" y="11609"/>
                </a:moveTo>
                <a:cubicBezTo>
                  <a:pt x="4608" y="11599"/>
                  <a:pt x="4668" y="11588"/>
                  <a:pt x="4738" y="11584"/>
                </a:cubicBezTo>
                <a:cubicBezTo>
                  <a:pt x="5483" y="11537"/>
                  <a:pt x="6284" y="11565"/>
                  <a:pt x="7020" y="11609"/>
                </a:cubicBezTo>
                <a:cubicBezTo>
                  <a:pt x="7346" y="11628"/>
                  <a:pt x="7663" y="11654"/>
                  <a:pt x="7987" y="11683"/>
                </a:cubicBezTo>
                <a:cubicBezTo>
                  <a:pt x="8110" y="11694"/>
                  <a:pt x="8242" y="11723"/>
                  <a:pt x="8359" y="11733"/>
                </a:cubicBezTo>
                <a:cubicBezTo>
                  <a:pt x="8779" y="11771"/>
                  <a:pt x="9208" y="11701"/>
                  <a:pt x="9624" y="11757"/>
                </a:cubicBezTo>
                <a:cubicBezTo>
                  <a:pt x="9667" y="11763"/>
                  <a:pt x="9716" y="11781"/>
                  <a:pt x="9773" y="11782"/>
                </a:cubicBezTo>
                <a:cubicBezTo>
                  <a:pt x="10041" y="11788"/>
                  <a:pt x="10390" y="11794"/>
                  <a:pt x="10616" y="11807"/>
                </a:cubicBezTo>
                <a:cubicBezTo>
                  <a:pt x="10770" y="11816"/>
                  <a:pt x="10973" y="11802"/>
                  <a:pt x="11088" y="11782"/>
                </a:cubicBezTo>
                <a:cubicBezTo>
                  <a:pt x="11045" y="11719"/>
                  <a:pt x="11114" y="11707"/>
                  <a:pt x="11013" y="11683"/>
                </a:cubicBezTo>
                <a:cubicBezTo>
                  <a:pt x="10816" y="11637"/>
                  <a:pt x="10607" y="11689"/>
                  <a:pt x="10418" y="11633"/>
                </a:cubicBezTo>
                <a:cubicBezTo>
                  <a:pt x="10389" y="11624"/>
                  <a:pt x="10325" y="11585"/>
                  <a:pt x="10319" y="11584"/>
                </a:cubicBezTo>
                <a:cubicBezTo>
                  <a:pt x="10268" y="11574"/>
                  <a:pt x="10185" y="11563"/>
                  <a:pt x="10145" y="11559"/>
                </a:cubicBezTo>
                <a:cubicBezTo>
                  <a:pt x="9604" y="11507"/>
                  <a:pt x="9040" y="11615"/>
                  <a:pt x="8508" y="11534"/>
                </a:cubicBezTo>
                <a:cubicBezTo>
                  <a:pt x="8499" y="11533"/>
                  <a:pt x="8405" y="11511"/>
                  <a:pt x="8359" y="11509"/>
                </a:cubicBezTo>
                <a:cubicBezTo>
                  <a:pt x="8257" y="11505"/>
                  <a:pt x="8161" y="11519"/>
                  <a:pt x="8062" y="11534"/>
                </a:cubicBezTo>
                <a:cubicBezTo>
                  <a:pt x="7987" y="11545"/>
                  <a:pt x="7919" y="11557"/>
                  <a:pt x="7838" y="11559"/>
                </a:cubicBezTo>
                <a:cubicBezTo>
                  <a:pt x="7256" y="11571"/>
                  <a:pt x="6677" y="11580"/>
                  <a:pt x="6102" y="11609"/>
                </a:cubicBezTo>
                <a:cubicBezTo>
                  <a:pt x="6023" y="11613"/>
                  <a:pt x="5971" y="11630"/>
                  <a:pt x="5928" y="11633"/>
                </a:cubicBezTo>
                <a:cubicBezTo>
                  <a:pt x="5802" y="11642"/>
                  <a:pt x="5680" y="11652"/>
                  <a:pt x="5556" y="11658"/>
                </a:cubicBezTo>
                <a:cubicBezTo>
                  <a:pt x="5349" y="11667"/>
                  <a:pt x="5136" y="11633"/>
                  <a:pt x="4936" y="11683"/>
                </a:cubicBezTo>
                <a:cubicBezTo>
                  <a:pt x="4829" y="11710"/>
                  <a:pt x="4745" y="11718"/>
                  <a:pt x="4638" y="11733"/>
                </a:cubicBezTo>
                <a:cubicBezTo>
                  <a:pt x="4577" y="11741"/>
                  <a:pt x="4494" y="11761"/>
                  <a:pt x="4465" y="11782"/>
                </a:cubicBezTo>
                <a:cubicBezTo>
                  <a:pt x="4465" y="11807"/>
                  <a:pt x="4465" y="11815"/>
                  <a:pt x="4465" y="11832"/>
                </a:cubicBezTo>
                <a:cubicBezTo>
                  <a:pt x="4498" y="11836"/>
                  <a:pt x="4506" y="11856"/>
                  <a:pt x="4539" y="11857"/>
                </a:cubicBezTo>
                <a:cubicBezTo>
                  <a:pt x="5029" y="11872"/>
                  <a:pt x="5519" y="11826"/>
                  <a:pt x="6003" y="11906"/>
                </a:cubicBezTo>
                <a:cubicBezTo>
                  <a:pt x="6135" y="11928"/>
                  <a:pt x="6271" y="11948"/>
                  <a:pt x="6400" y="11956"/>
                </a:cubicBezTo>
                <a:cubicBezTo>
                  <a:pt x="6761" y="11980"/>
                  <a:pt x="7204" y="11952"/>
                  <a:pt x="7516" y="11931"/>
                </a:cubicBezTo>
                <a:cubicBezTo>
                  <a:pt x="7665" y="11921"/>
                  <a:pt x="7813" y="11908"/>
                  <a:pt x="7962" y="11906"/>
                </a:cubicBezTo>
                <a:cubicBezTo>
                  <a:pt x="8153" y="11903"/>
                  <a:pt x="8409" y="11908"/>
                  <a:pt x="8558" y="11881"/>
                </a:cubicBezTo>
                <a:cubicBezTo>
                  <a:pt x="8667" y="11861"/>
                  <a:pt x="8766" y="11859"/>
                  <a:pt x="8880" y="11857"/>
                </a:cubicBezTo>
                <a:cubicBezTo>
                  <a:pt x="9138" y="11852"/>
                  <a:pt x="9398" y="11876"/>
                  <a:pt x="9649" y="11832"/>
                </a:cubicBezTo>
                <a:cubicBezTo>
                  <a:pt x="9805" y="11805"/>
                  <a:pt x="9962" y="11790"/>
                  <a:pt x="10120" y="11782"/>
                </a:cubicBezTo>
                <a:cubicBezTo>
                  <a:pt x="10292" y="11774"/>
                  <a:pt x="10536" y="11809"/>
                  <a:pt x="10666" y="11757"/>
                </a:cubicBezTo>
                <a:cubicBezTo>
                  <a:pt x="10689" y="11748"/>
                  <a:pt x="10738" y="11709"/>
                  <a:pt x="10740" y="11708"/>
                </a:cubicBezTo>
                <a:cubicBezTo>
                  <a:pt x="10761" y="11701"/>
                  <a:pt x="10847" y="11694"/>
                  <a:pt x="10864" y="11683"/>
                </a:cubicBezTo>
                <a:cubicBezTo>
                  <a:pt x="10888" y="11668"/>
                  <a:pt x="10874" y="11643"/>
                  <a:pt x="10889" y="11633"/>
                </a:cubicBezTo>
                <a:cubicBezTo>
                  <a:pt x="10861" y="11618"/>
                  <a:pt x="10899" y="11600"/>
                  <a:pt x="10840" y="11584"/>
                </a:cubicBezTo>
                <a:cubicBezTo>
                  <a:pt x="10802" y="11574"/>
                  <a:pt x="10782" y="11564"/>
                  <a:pt x="10740" y="11559"/>
                </a:cubicBezTo>
                <a:cubicBezTo>
                  <a:pt x="10573" y="11538"/>
                  <a:pt x="10388" y="11559"/>
                  <a:pt x="10220" y="1155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Sacrum and Coccyx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7770960" y="6019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1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_x0011_05_19Figure-L.jpg                                              004E43EE_x000c_EHAP_for_kym                   C37AF81A:"/>
          <p:cNvPicPr/>
          <p:nvPr/>
        </p:nvPicPr>
        <p:blipFill>
          <a:blip r:embed="rId1"/>
          <a:srcRect l="2106" t="1215" r="2106" b="3571"/>
          <a:stretch/>
        </p:blipFill>
        <p:spPr>
          <a:xfrm>
            <a:off x="2913120" y="1066680"/>
            <a:ext cx="3317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The Bony Thorax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orm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ge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ct 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major organ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onsists of three part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rnum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ibs 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ue ribs (pairs 1–7)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lse ribs (pairs 8–12)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oating ribs (pairs 11–12)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oracic vertebra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The Bony Thorax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7770600" y="601992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20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_x0012_05_20Figurea-L.jpg                                             004E43EE_x000c_EHAP_for_kym                   C37AF81A:"/>
          <p:cNvPicPr/>
          <p:nvPr/>
        </p:nvPicPr>
        <p:blipFill>
          <a:blip r:embed="rId1"/>
          <a:srcRect l="665" t="1215" r="1580" b="4764"/>
          <a:stretch/>
        </p:blipFill>
        <p:spPr>
          <a:xfrm>
            <a:off x="1181160" y="1066680"/>
            <a:ext cx="6781680" cy="50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The Fetal Skull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he fetal skull is large compared to the infant’s total body length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ntanels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—fibrous membranes connecting the cranial bones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soft spot)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Allow the brain to grow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vert to bone 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within 24 months after birth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The Fetal Skull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7770600" y="601992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13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8" descr="_x0012_05_13Figurea-L.jpg                                             004E43EE_x000c_EHAP_for_kym                   C37AF81A:"/>
          <p:cNvPicPr/>
          <p:nvPr/>
        </p:nvPicPr>
        <p:blipFill>
          <a:blip r:embed="rId1"/>
          <a:srcRect l="0" t="1618" r="0" b="5439"/>
          <a:stretch/>
        </p:blipFill>
        <p:spPr>
          <a:xfrm>
            <a:off x="878040" y="1017720"/>
            <a:ext cx="7386480" cy="48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The Fetal Skull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770600" y="601992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13b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_x0012_05_13Figureb-L.jpg                                             004E43EE_x000c_EHAP_for_kym                   C37AF81A:"/>
          <p:cNvPicPr/>
          <p:nvPr/>
        </p:nvPicPr>
        <p:blipFill>
          <a:blip r:embed="rId1"/>
          <a:srcRect l="0" t="1126" r="948" b="4858"/>
          <a:stretch/>
        </p:blipFill>
        <p:spPr>
          <a:xfrm>
            <a:off x="876240" y="1066680"/>
            <a:ext cx="739152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The Vertebral Column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ach vertebrae is given a name according to its locatio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here are 24 single vertebral bones separated by intervertebral disc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 cervical 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vertebrae are in the neck 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welve thoracic 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vertebrae are in the chest regio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ve lumbar 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vertebrae are associated with the lower back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The Vertebral Column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ine vertebrae 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use to form two composite bon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crum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ccyx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Vertebral Column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7770960" y="6019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1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8" descr="_x0011_05_14Figure-L.jpg                                              004E43EE_x000c_EHAP_for_kym                   C37AF81A:"/>
          <p:cNvPicPr/>
          <p:nvPr/>
        </p:nvPicPr>
        <p:blipFill>
          <a:blip r:embed="rId1"/>
          <a:srcRect l="6369" t="1215" r="6369" b="3571"/>
          <a:stretch/>
        </p:blipFill>
        <p:spPr>
          <a:xfrm>
            <a:off x="3341520" y="1066680"/>
            <a:ext cx="24609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The Vertebral Column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he spine has a normal curvatur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Primary curvatures are the spinal curvatures of the thoracic and sacral region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Present from birth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condary curvatures are the spinal curvatures of the cervical and lumbar region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Develop after birth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The Vertebral Column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770960" y="6019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" descr="_x0011_05_15Figure-U.jpg                                              004E43EE_x000c_EHAP_for_kym                   C37AF81A:"/>
          <p:cNvPicPr/>
          <p:nvPr/>
        </p:nvPicPr>
        <p:blipFill>
          <a:blip r:embed="rId1"/>
          <a:srcRect l="820" t="1461" r="1716" b="5270"/>
          <a:stretch/>
        </p:blipFill>
        <p:spPr>
          <a:xfrm>
            <a:off x="914400" y="1044720"/>
            <a:ext cx="73152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cataylor</cp:lastModifiedBy>
  <cp:lastPrinted>2001-01-06T03:20:03Z</cp:lastPrinted>
  <dcterms:modified xsi:type="dcterms:W3CDTF">2012-09-19T19:42:14Z</dcterms:modified>
  <cp:revision>281</cp:revision>
  <dc:subject/>
  <dc:title>Nerve activates contraction</dc:title>
</cp:coreProperties>
</file>