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81204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164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3820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164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3820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596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440" y="381204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596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164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3820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44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164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3820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c7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3" marL="187632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4" marL="240660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5" marL="2406600" indent="-284040"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6" marL="2406600" indent="-284040"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629400"/>
            <a:ext cx="914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Copyright © 2009 Pearson Education, Inc., publishing as Benjamin Cumming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324480"/>
            <a:ext cx="9144000" cy="152280"/>
            <a:chOff x="0" y="6324480"/>
            <a:chExt cx="9144000" cy="152280"/>
          </a:xfrm>
        </p:grpSpPr>
        <p:sp>
          <p:nvSpPr>
            <p:cNvPr id="5" name="Line 7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6ba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400800"/>
              <a:ext cx="91440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0" y="6476760"/>
              <a:ext cx="9144000" cy="0"/>
            </a:xfrm>
            <a:prstGeom prst="line">
              <a:avLst/>
            </a:prstGeom>
            <a:ln w="38160">
              <a:solidFill>
                <a:srgbClr val="0a63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Line 10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6ba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c7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c7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5334120" y="15228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Lecture Slide Present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y Patty Bostwick-Taylor,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lorence-Darlington Technical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5181480" y="6400800"/>
            <a:ext cx="3886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opyright © 2009 Pearson Education, Inc., publishing as Benjamin Cumming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0" y="5791320"/>
            <a:ext cx="9144000" cy="152280"/>
            <a:chOff x="0" y="5791320"/>
            <a:chExt cx="9144000" cy="152280"/>
          </a:xfrm>
        </p:grpSpPr>
        <p:sp>
          <p:nvSpPr>
            <p:cNvPr id="50" name="Line 8"/>
            <p:cNvSpPr/>
            <p:nvPr/>
          </p:nvSpPr>
          <p:spPr>
            <a:xfrm>
              <a:off x="0" y="5791320"/>
              <a:ext cx="9144000" cy="0"/>
            </a:xfrm>
            <a:prstGeom prst="line">
              <a:avLst/>
            </a:prstGeom>
            <a:ln w="38160">
              <a:solidFill>
                <a:srgbClr val="6ba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9"/>
            <p:cNvSpPr/>
            <p:nvPr/>
          </p:nvSpPr>
          <p:spPr>
            <a:xfrm>
              <a:off x="0" y="5867640"/>
              <a:ext cx="91440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0"/>
            <p:cNvSpPr/>
            <p:nvPr/>
          </p:nvSpPr>
          <p:spPr>
            <a:xfrm>
              <a:off x="0" y="5943600"/>
              <a:ext cx="9144000" cy="0"/>
            </a:xfrm>
            <a:prstGeom prst="line">
              <a:avLst/>
            </a:prstGeom>
            <a:ln w="38160">
              <a:solidFill>
                <a:srgbClr val="0a63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" name="Picture 11" descr="51353Marieb9e_ecat"/>
          <p:cNvPicPr/>
          <p:nvPr/>
        </p:nvPicPr>
        <p:blipFill>
          <a:blip r:embed="rId2"/>
          <a:stretch/>
        </p:blipFill>
        <p:spPr>
          <a:xfrm>
            <a:off x="152280" y="228600"/>
            <a:ext cx="4953240" cy="63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2"/>
          <p:cNvSpPr/>
          <p:nvPr/>
        </p:nvSpPr>
        <p:spPr>
          <a:xfrm>
            <a:off x="7620120" y="54864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639a"/>
                </a:solidFill>
                <a:latin typeface="Arial"/>
              </a:rPr>
              <a:t>PAR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6095880" y="4648320"/>
            <a:ext cx="1828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0" spc="-1" strike="noStrike">
                <a:solidFill>
                  <a:srgbClr val="0a639a"/>
                </a:solidFill>
                <a:latin typeface="Arial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152280" y="228600"/>
            <a:ext cx="4953240" cy="632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3" marL="187632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4" marL="240660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5" marL="2406600" indent="-284040"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6" marL="2406600" indent="-284040"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3760" y="2490480"/>
            <a:ext cx="3276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639a"/>
                </a:solidFill>
                <a:latin typeface="Arial"/>
              </a:rPr>
              <a:t>The Skeletal System</a:t>
            </a:r>
            <a:endParaRPr b="1" lang="en-US" sz="32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The Axial Skeleton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rms the longitudinal axis of the body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vided into three part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kul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ertebral column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ony thorax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The Axial Skeleton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7770960" y="60199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6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17" descr="_x0012_05_06Figurea-L.jpg                                             004E43EE_x000c_EHAP_for_kym                   C37AF81A:"/>
          <p:cNvPicPr/>
          <p:nvPr/>
        </p:nvPicPr>
        <p:blipFill>
          <a:blip r:embed="rId1"/>
          <a:srcRect l="1514" t="1264" r="1482" b="3640"/>
          <a:stretch/>
        </p:blipFill>
        <p:spPr>
          <a:xfrm>
            <a:off x="2771640" y="1028880"/>
            <a:ext cx="360072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The Axial Skeleton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770960" y="601992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6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6" descr="_x0012_05_06Figureb-L.jpg                                             004E43EE_x000c_EHAP_for_kym                   C37AF81A:"/>
          <p:cNvPicPr/>
          <p:nvPr/>
        </p:nvPicPr>
        <p:blipFill>
          <a:blip r:embed="rId1"/>
          <a:srcRect l="0" t="1215" r="1745" b="3571"/>
          <a:stretch/>
        </p:blipFill>
        <p:spPr>
          <a:xfrm>
            <a:off x="3076560" y="1066680"/>
            <a:ext cx="298944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The Skull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wo sets of bon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anium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ial bon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Bones are joined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tur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ly the mandible is attached by a freely movable joint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Human Skull, Lateral View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7770960" y="60199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16" descr="_x0011_05_07Figure-L.jpg                                              004E43EE_x000c_EHAP_for_kym                   C37AF81A:"/>
          <p:cNvPicPr/>
          <p:nvPr/>
        </p:nvPicPr>
        <p:blipFill>
          <a:blip r:embed="rId1"/>
          <a:srcRect l="0" t="2027" r="0" b="6236"/>
          <a:stretch/>
        </p:blipFill>
        <p:spPr>
          <a:xfrm>
            <a:off x="690480" y="1170000"/>
            <a:ext cx="7763040" cy="45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Human Skull, Superior View 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7770960" y="60199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17" descr="_x0011_05_08Figure-L.jpg                                              004E43EE_x000c_EHAP_for_kym                   C37AF81A:"/>
          <p:cNvPicPr/>
          <p:nvPr/>
        </p:nvPicPr>
        <p:blipFill>
          <a:blip r:embed="rId1"/>
          <a:srcRect l="948" t="1361" r="948" b="5201"/>
          <a:stretch/>
        </p:blipFill>
        <p:spPr>
          <a:xfrm>
            <a:off x="876240" y="1038240"/>
            <a:ext cx="7391520" cy="49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Human Skull, Inferior View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7770960" y="60199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7" descr="_x0011_05_09Figure-L.jpg                                              004E43EE_x000c_EHAP_for_kym                   C37AF81A:"/>
          <p:cNvPicPr/>
          <p:nvPr/>
        </p:nvPicPr>
        <p:blipFill>
          <a:blip r:embed="rId1"/>
          <a:srcRect l="857" t="1425" r="857" b="5139"/>
          <a:stretch/>
        </p:blipFill>
        <p:spPr>
          <a:xfrm>
            <a:off x="1028880" y="1143000"/>
            <a:ext cx="7086600" cy="48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Human Skull, Anterior View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7770960" y="60199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17" descr="_x0011_05_11Figure-L.jpg                                              004E43EE_x000c_EHAP_for_kym                   C37AF81A:"/>
          <p:cNvPicPr/>
          <p:nvPr/>
        </p:nvPicPr>
        <p:blipFill>
          <a:blip r:embed="rId1"/>
          <a:srcRect l="0" t="1215" r="0" b="4764"/>
          <a:stretch/>
        </p:blipFill>
        <p:spPr>
          <a:xfrm>
            <a:off x="1549440" y="1079640"/>
            <a:ext cx="6045120" cy="49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Paranasal Sinuse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Hollow portions of bones surrounding the nasal cavity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nctions of paranasal sinus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ghten the skul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ive resonance and amplification to voic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Paranasal Sinuse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7770600" y="601992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10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7" descr="_x0012_05_10Figurea-L.jpg                                             004E43EE_x000c_EHAP_for_kym                   C37AF81A:"/>
          <p:cNvPicPr/>
          <p:nvPr/>
        </p:nvPicPr>
        <p:blipFill>
          <a:blip r:embed="rId1"/>
          <a:srcRect l="1552" t="2310" r="1535" b="5866"/>
          <a:stretch/>
        </p:blipFill>
        <p:spPr>
          <a:xfrm>
            <a:off x="1219320" y="1038240"/>
            <a:ext cx="670536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Bone Fracture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90000"/>
              </a:lnSpc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racture—break in a bon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ypes of bone fractur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lnSpc>
                <a:spcPct val="90000"/>
              </a:lnSpc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losed (simple) fracture—break that does not penetrate the skin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lnSpc>
                <a:spcPct val="90000"/>
              </a:lnSpc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Open (compound) fracture—broken bone penetrates through the skin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Bone fractures are treated  by reduction and immobilization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Paranasal Sinuse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7770600" y="601992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10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7" descr="_x0012_05_10Figureb-L.jpg                                             004E43EE_x000c_EHAP_for_kym                   C37AF81A:"/>
          <p:cNvPicPr/>
          <p:nvPr/>
        </p:nvPicPr>
        <p:blipFill>
          <a:blip r:embed="rId1"/>
          <a:srcRect l="1400" t="1335" r="1383" b="4896"/>
          <a:stretch/>
        </p:blipFill>
        <p:spPr>
          <a:xfrm>
            <a:off x="1352520" y="1143000"/>
            <a:ext cx="6438960" cy="48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The Hyoid Bone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he only bone that does not articulate with another bone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not attached)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rves as a moveable base for the tongu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ids in swallowing and speech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The Hyoid Bone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7770960" y="60199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4" descr="_x0011_05_12Figure-L.jpg                                              004E43EE_x000c_EHAP_for_kym                   C37AF81A:"/>
          <p:cNvPicPr/>
          <p:nvPr/>
        </p:nvPicPr>
        <p:blipFill>
          <a:blip r:embed="rId1"/>
          <a:srcRect l="1578" t="1313" r="1554" b="6040"/>
          <a:stretch/>
        </p:blipFill>
        <p:spPr>
          <a:xfrm>
            <a:off x="1486080" y="1066680"/>
            <a:ext cx="617220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Common Types of Fracture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7770960" y="601992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Table 5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0" descr="_x0011_05_T02Table-T.jpg                                              004E43EE_x000c_EHAP_for_kym                   C37AF81A:"/>
          <p:cNvPicPr/>
          <p:nvPr/>
        </p:nvPicPr>
        <p:blipFill>
          <a:blip r:embed="rId1"/>
          <a:srcRect l="1679" t="1760" r="1662" b="5781"/>
          <a:stretch/>
        </p:blipFill>
        <p:spPr>
          <a:xfrm>
            <a:off x="723960" y="1027080"/>
            <a:ext cx="7696080" cy="49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Repair of Bone Fracture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Hematoma (blood-filled swelling) is formed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Break is splinted by fibrocartilage to form a callu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ibrocartilage callus is replaced by a bony callu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Bony callus is remodeled to form a permanent patch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Stages in the Healing of a Bone Fracture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7770960" y="60199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7"/>
          <p:cNvGrpSpPr/>
          <p:nvPr/>
        </p:nvGrpSpPr>
        <p:grpSpPr>
          <a:xfrm>
            <a:off x="438120" y="1843200"/>
            <a:ext cx="7989120" cy="3146760"/>
            <a:chOff x="438120" y="1843200"/>
            <a:chExt cx="7989120" cy="3146760"/>
          </a:xfrm>
        </p:grpSpPr>
        <p:pic>
          <p:nvPicPr>
            <p:cNvPr id="106" name="Picture 18" descr="_x000b_05_05Figure                                                    000447CA&#10;Maxtor 300                     BFF2A1C5:"/>
            <p:cNvPicPr/>
            <p:nvPr/>
          </p:nvPicPr>
          <p:blipFill>
            <a:blip r:embed="rId1"/>
            <a:stretch/>
          </p:blipFill>
          <p:spPr>
            <a:xfrm>
              <a:off x="438120" y="1843200"/>
              <a:ext cx="7986600" cy="29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Freeform 19"/>
            <p:cNvSpPr/>
            <p:nvPr/>
          </p:nvSpPr>
          <p:spPr>
            <a:xfrm>
              <a:off x="1892160" y="2309760"/>
              <a:ext cx="187560" cy="45108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20"/>
            <p:cNvSpPr/>
            <p:nvPr/>
          </p:nvSpPr>
          <p:spPr>
            <a:xfrm>
              <a:off x="4111560" y="2544840"/>
              <a:ext cx="168480" cy="43812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21"/>
            <p:cNvSpPr/>
            <p:nvPr/>
          </p:nvSpPr>
          <p:spPr>
            <a:xfrm flipH="1">
              <a:off x="2695680" y="3208320"/>
              <a:ext cx="48240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22"/>
            <p:cNvSpPr/>
            <p:nvPr/>
          </p:nvSpPr>
          <p:spPr>
            <a:xfrm>
              <a:off x="3844800" y="3392640"/>
              <a:ext cx="4543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23"/>
            <p:cNvSpPr/>
            <p:nvPr/>
          </p:nvSpPr>
          <p:spPr>
            <a:xfrm>
              <a:off x="3895560" y="3639960"/>
              <a:ext cx="254160" cy="47628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24"/>
            <p:cNvSpPr/>
            <p:nvPr/>
          </p:nvSpPr>
          <p:spPr>
            <a:xfrm>
              <a:off x="5853240" y="2560680"/>
              <a:ext cx="463320" cy="71424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25"/>
            <p:cNvSpPr/>
            <p:nvPr/>
          </p:nvSpPr>
          <p:spPr>
            <a:xfrm>
              <a:off x="1892160" y="2309760"/>
              <a:ext cx="187560" cy="45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26"/>
            <p:cNvSpPr/>
            <p:nvPr/>
          </p:nvSpPr>
          <p:spPr>
            <a:xfrm flipH="1">
              <a:off x="6897240" y="3468600"/>
              <a:ext cx="250920" cy="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27"/>
            <p:cNvSpPr/>
            <p:nvPr/>
          </p:nvSpPr>
          <p:spPr>
            <a:xfrm>
              <a:off x="2733840" y="3208320"/>
              <a:ext cx="444240" cy="14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28"/>
            <p:cNvSpPr/>
            <p:nvPr/>
          </p:nvSpPr>
          <p:spPr>
            <a:xfrm>
              <a:off x="4111560" y="2544840"/>
              <a:ext cx="165240" cy="43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29"/>
            <p:cNvSpPr/>
            <p:nvPr/>
          </p:nvSpPr>
          <p:spPr>
            <a:xfrm>
              <a:off x="3895560" y="3639960"/>
              <a:ext cx="254160" cy="476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30"/>
            <p:cNvSpPr/>
            <p:nvPr/>
          </p:nvSpPr>
          <p:spPr>
            <a:xfrm>
              <a:off x="5853240" y="2560680"/>
              <a:ext cx="463320" cy="714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31"/>
            <p:cNvSpPr/>
            <p:nvPr/>
          </p:nvSpPr>
          <p:spPr>
            <a:xfrm>
              <a:off x="3844800" y="3392640"/>
              <a:ext cx="454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2"/>
            <p:cNvSpPr/>
            <p:nvPr/>
          </p:nvSpPr>
          <p:spPr>
            <a:xfrm>
              <a:off x="6934320" y="3468600"/>
              <a:ext cx="214200" cy="18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33"/>
            <p:cNvSpPr/>
            <p:nvPr/>
          </p:nvSpPr>
          <p:spPr>
            <a:xfrm>
              <a:off x="2091600" y="2214720"/>
              <a:ext cx="78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mato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34"/>
            <p:cNvSpPr/>
            <p:nvPr/>
          </p:nvSpPr>
          <p:spPr>
            <a:xfrm>
              <a:off x="4289040" y="2459160"/>
              <a:ext cx="6040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ll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35"/>
            <p:cNvSpPr/>
            <p:nvPr/>
          </p:nvSpPr>
          <p:spPr>
            <a:xfrm>
              <a:off x="6325560" y="2465280"/>
              <a:ext cx="62100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n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llus of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ong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36"/>
            <p:cNvSpPr/>
            <p:nvPr/>
          </p:nvSpPr>
          <p:spPr>
            <a:xfrm>
              <a:off x="6333840" y="3370320"/>
              <a:ext cx="5691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ale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c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37"/>
            <p:cNvSpPr/>
            <p:nvPr/>
          </p:nvSpPr>
          <p:spPr>
            <a:xfrm>
              <a:off x="4309560" y="3300480"/>
              <a:ext cx="5554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oo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ss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38"/>
            <p:cNvSpPr/>
            <p:nvPr/>
          </p:nvSpPr>
          <p:spPr>
            <a:xfrm>
              <a:off x="2095920" y="3103560"/>
              <a:ext cx="7567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na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llus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fibrous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issue an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tilag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39"/>
            <p:cNvSpPr/>
            <p:nvPr/>
          </p:nvSpPr>
          <p:spPr>
            <a:xfrm>
              <a:off x="4165200" y="4027320"/>
              <a:ext cx="6804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ong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n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becu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40"/>
            <p:cNvSpPr/>
            <p:nvPr/>
          </p:nvSpPr>
          <p:spPr>
            <a:xfrm>
              <a:off x="907560" y="4621320"/>
              <a:ext cx="780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matoma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41"/>
            <p:cNvSpPr/>
            <p:nvPr/>
          </p:nvSpPr>
          <p:spPr>
            <a:xfrm>
              <a:off x="3007080" y="4624560"/>
              <a:ext cx="1180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brocartilag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llus 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42"/>
            <p:cNvSpPr/>
            <p:nvPr/>
          </p:nvSpPr>
          <p:spPr>
            <a:xfrm>
              <a:off x="5191200" y="4624560"/>
              <a:ext cx="858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ny callus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43"/>
            <p:cNvSpPr/>
            <p:nvPr/>
          </p:nvSpPr>
          <p:spPr>
            <a:xfrm>
              <a:off x="7179840" y="4618080"/>
              <a:ext cx="1247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ne remode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Stages in the Healing of a Bone Fracture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353720" y="601992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5, ste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438120" y="1843200"/>
            <a:ext cx="7986600" cy="3143520"/>
            <a:chOff x="438120" y="1843200"/>
            <a:chExt cx="7986600" cy="3143520"/>
          </a:xfrm>
        </p:grpSpPr>
        <p:pic>
          <p:nvPicPr>
            <p:cNvPr id="135" name="Picture 5" descr="_x000b_05_05Figure                                                    000447CA&#10;Maxtor 300                     BFF2A1C5:"/>
            <p:cNvPicPr/>
            <p:nvPr/>
          </p:nvPicPr>
          <p:blipFill>
            <a:blip r:embed="rId1"/>
            <a:stretch/>
          </p:blipFill>
          <p:spPr>
            <a:xfrm>
              <a:off x="438120" y="1843200"/>
              <a:ext cx="7986600" cy="29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Freeform 6"/>
            <p:cNvSpPr/>
            <p:nvPr/>
          </p:nvSpPr>
          <p:spPr>
            <a:xfrm>
              <a:off x="1892160" y="2309760"/>
              <a:ext cx="187560" cy="45108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7"/>
            <p:cNvSpPr/>
            <p:nvPr/>
          </p:nvSpPr>
          <p:spPr>
            <a:xfrm>
              <a:off x="1892160" y="2309760"/>
              <a:ext cx="187560" cy="45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8"/>
            <p:cNvSpPr/>
            <p:nvPr/>
          </p:nvSpPr>
          <p:spPr>
            <a:xfrm>
              <a:off x="2091600" y="2214720"/>
              <a:ext cx="78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mato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9"/>
            <p:cNvSpPr/>
            <p:nvPr/>
          </p:nvSpPr>
          <p:spPr>
            <a:xfrm>
              <a:off x="907560" y="4621320"/>
              <a:ext cx="780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matoma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Stages in the Healing of a Bone Fracture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7353720" y="601992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5, st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5"/>
          <p:cNvGrpSpPr/>
          <p:nvPr/>
        </p:nvGrpSpPr>
        <p:grpSpPr>
          <a:xfrm>
            <a:off x="438120" y="1843200"/>
            <a:ext cx="7986600" cy="3146760"/>
            <a:chOff x="438120" y="1843200"/>
            <a:chExt cx="7986600" cy="3146760"/>
          </a:xfrm>
        </p:grpSpPr>
        <p:pic>
          <p:nvPicPr>
            <p:cNvPr id="143" name="Picture 6" descr="_x000b_05_05Figure                                                    000447CA&#10;Maxtor 300                     BFF2A1C5:"/>
            <p:cNvPicPr/>
            <p:nvPr/>
          </p:nvPicPr>
          <p:blipFill>
            <a:blip r:embed="rId1"/>
            <a:stretch/>
          </p:blipFill>
          <p:spPr>
            <a:xfrm>
              <a:off x="438120" y="1843200"/>
              <a:ext cx="7986600" cy="29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Freeform 7"/>
            <p:cNvSpPr/>
            <p:nvPr/>
          </p:nvSpPr>
          <p:spPr>
            <a:xfrm>
              <a:off x="1892160" y="2309760"/>
              <a:ext cx="187560" cy="45108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8"/>
            <p:cNvSpPr/>
            <p:nvPr/>
          </p:nvSpPr>
          <p:spPr>
            <a:xfrm>
              <a:off x="4111560" y="2544840"/>
              <a:ext cx="168480" cy="43812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9"/>
            <p:cNvSpPr/>
            <p:nvPr/>
          </p:nvSpPr>
          <p:spPr>
            <a:xfrm flipH="1">
              <a:off x="2695680" y="3208320"/>
              <a:ext cx="48240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10"/>
            <p:cNvSpPr/>
            <p:nvPr/>
          </p:nvSpPr>
          <p:spPr>
            <a:xfrm>
              <a:off x="3844800" y="3392640"/>
              <a:ext cx="4543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11"/>
            <p:cNvSpPr/>
            <p:nvPr/>
          </p:nvSpPr>
          <p:spPr>
            <a:xfrm>
              <a:off x="3895560" y="3639960"/>
              <a:ext cx="254160" cy="47628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2"/>
            <p:cNvSpPr/>
            <p:nvPr/>
          </p:nvSpPr>
          <p:spPr>
            <a:xfrm>
              <a:off x="1892160" y="2309760"/>
              <a:ext cx="187560" cy="45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13"/>
            <p:cNvSpPr/>
            <p:nvPr/>
          </p:nvSpPr>
          <p:spPr>
            <a:xfrm>
              <a:off x="2733840" y="3208320"/>
              <a:ext cx="444240" cy="14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14"/>
            <p:cNvSpPr/>
            <p:nvPr/>
          </p:nvSpPr>
          <p:spPr>
            <a:xfrm>
              <a:off x="4111560" y="2544840"/>
              <a:ext cx="165240" cy="43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15"/>
            <p:cNvSpPr/>
            <p:nvPr/>
          </p:nvSpPr>
          <p:spPr>
            <a:xfrm>
              <a:off x="3895560" y="3639960"/>
              <a:ext cx="254160" cy="476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6"/>
            <p:cNvSpPr/>
            <p:nvPr/>
          </p:nvSpPr>
          <p:spPr>
            <a:xfrm>
              <a:off x="3844800" y="3392640"/>
              <a:ext cx="454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17"/>
            <p:cNvSpPr/>
            <p:nvPr/>
          </p:nvSpPr>
          <p:spPr>
            <a:xfrm>
              <a:off x="2091600" y="2214720"/>
              <a:ext cx="78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mato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8"/>
            <p:cNvSpPr/>
            <p:nvPr/>
          </p:nvSpPr>
          <p:spPr>
            <a:xfrm>
              <a:off x="4289040" y="2459160"/>
              <a:ext cx="6040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ll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9"/>
            <p:cNvSpPr/>
            <p:nvPr/>
          </p:nvSpPr>
          <p:spPr>
            <a:xfrm>
              <a:off x="4309560" y="3300480"/>
              <a:ext cx="5554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oo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ss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20"/>
            <p:cNvSpPr/>
            <p:nvPr/>
          </p:nvSpPr>
          <p:spPr>
            <a:xfrm>
              <a:off x="2095920" y="3103560"/>
              <a:ext cx="7567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na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llus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fibrous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issue an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tilag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21"/>
            <p:cNvSpPr/>
            <p:nvPr/>
          </p:nvSpPr>
          <p:spPr>
            <a:xfrm>
              <a:off x="4165200" y="4027320"/>
              <a:ext cx="6804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ong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n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becu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22"/>
            <p:cNvSpPr/>
            <p:nvPr/>
          </p:nvSpPr>
          <p:spPr>
            <a:xfrm>
              <a:off x="907560" y="4621320"/>
              <a:ext cx="780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matoma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23"/>
            <p:cNvSpPr/>
            <p:nvPr/>
          </p:nvSpPr>
          <p:spPr>
            <a:xfrm>
              <a:off x="3007080" y="4624560"/>
              <a:ext cx="1180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brocartilag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llus 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Stages in the Healing of a Bone Fracture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7353720" y="601992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5, step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5"/>
          <p:cNvGrpSpPr/>
          <p:nvPr/>
        </p:nvGrpSpPr>
        <p:grpSpPr>
          <a:xfrm>
            <a:off x="438120" y="1843200"/>
            <a:ext cx="7986600" cy="3146760"/>
            <a:chOff x="438120" y="1843200"/>
            <a:chExt cx="7986600" cy="3146760"/>
          </a:xfrm>
        </p:grpSpPr>
        <p:pic>
          <p:nvPicPr>
            <p:cNvPr id="164" name="Picture 6" descr="_x000b_05_05Figure                                                    000447CA&#10;Maxtor 300                     BFF2A1C5:"/>
            <p:cNvPicPr/>
            <p:nvPr/>
          </p:nvPicPr>
          <p:blipFill>
            <a:blip r:embed="rId1"/>
            <a:stretch/>
          </p:blipFill>
          <p:spPr>
            <a:xfrm>
              <a:off x="438120" y="1843200"/>
              <a:ext cx="7986600" cy="29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Freeform 7"/>
            <p:cNvSpPr/>
            <p:nvPr/>
          </p:nvSpPr>
          <p:spPr>
            <a:xfrm>
              <a:off x="1892160" y="2309760"/>
              <a:ext cx="187560" cy="45108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8"/>
            <p:cNvSpPr/>
            <p:nvPr/>
          </p:nvSpPr>
          <p:spPr>
            <a:xfrm>
              <a:off x="4111560" y="2544840"/>
              <a:ext cx="168480" cy="43812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 flipH="1">
              <a:off x="2695680" y="3208320"/>
              <a:ext cx="48240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0"/>
            <p:cNvSpPr/>
            <p:nvPr/>
          </p:nvSpPr>
          <p:spPr>
            <a:xfrm>
              <a:off x="3844800" y="3392640"/>
              <a:ext cx="4543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11"/>
            <p:cNvSpPr/>
            <p:nvPr/>
          </p:nvSpPr>
          <p:spPr>
            <a:xfrm>
              <a:off x="3895560" y="3639960"/>
              <a:ext cx="254160" cy="47628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5853240" y="2560680"/>
              <a:ext cx="463320" cy="71424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13"/>
            <p:cNvSpPr/>
            <p:nvPr/>
          </p:nvSpPr>
          <p:spPr>
            <a:xfrm>
              <a:off x="1892160" y="2309760"/>
              <a:ext cx="187560" cy="45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14"/>
            <p:cNvSpPr/>
            <p:nvPr/>
          </p:nvSpPr>
          <p:spPr>
            <a:xfrm>
              <a:off x="2733840" y="3208320"/>
              <a:ext cx="444240" cy="14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>
              <a:off x="4111560" y="2544840"/>
              <a:ext cx="165240" cy="43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16"/>
            <p:cNvSpPr/>
            <p:nvPr/>
          </p:nvSpPr>
          <p:spPr>
            <a:xfrm>
              <a:off x="3895560" y="3639960"/>
              <a:ext cx="254160" cy="476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Freeform 17"/>
            <p:cNvSpPr/>
            <p:nvPr/>
          </p:nvSpPr>
          <p:spPr>
            <a:xfrm>
              <a:off x="5853240" y="2560680"/>
              <a:ext cx="463320" cy="714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18"/>
            <p:cNvSpPr/>
            <p:nvPr/>
          </p:nvSpPr>
          <p:spPr>
            <a:xfrm>
              <a:off x="3844800" y="3392640"/>
              <a:ext cx="454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9"/>
            <p:cNvSpPr/>
            <p:nvPr/>
          </p:nvSpPr>
          <p:spPr>
            <a:xfrm>
              <a:off x="2091600" y="2214720"/>
              <a:ext cx="78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mato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20"/>
            <p:cNvSpPr/>
            <p:nvPr/>
          </p:nvSpPr>
          <p:spPr>
            <a:xfrm>
              <a:off x="4289040" y="2459160"/>
              <a:ext cx="6040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ll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21"/>
            <p:cNvSpPr/>
            <p:nvPr/>
          </p:nvSpPr>
          <p:spPr>
            <a:xfrm>
              <a:off x="6325560" y="2465280"/>
              <a:ext cx="62100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n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llus of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ong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22"/>
            <p:cNvSpPr/>
            <p:nvPr/>
          </p:nvSpPr>
          <p:spPr>
            <a:xfrm>
              <a:off x="4309560" y="3300480"/>
              <a:ext cx="5554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oo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ss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23"/>
            <p:cNvSpPr/>
            <p:nvPr/>
          </p:nvSpPr>
          <p:spPr>
            <a:xfrm>
              <a:off x="2095920" y="3103560"/>
              <a:ext cx="7567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na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llus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fibrous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issue an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tilag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24"/>
            <p:cNvSpPr/>
            <p:nvPr/>
          </p:nvSpPr>
          <p:spPr>
            <a:xfrm>
              <a:off x="4165200" y="4027320"/>
              <a:ext cx="6804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ong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n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becu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25"/>
            <p:cNvSpPr/>
            <p:nvPr/>
          </p:nvSpPr>
          <p:spPr>
            <a:xfrm>
              <a:off x="907560" y="4621320"/>
              <a:ext cx="780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matoma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26"/>
            <p:cNvSpPr/>
            <p:nvPr/>
          </p:nvSpPr>
          <p:spPr>
            <a:xfrm>
              <a:off x="3007080" y="4624560"/>
              <a:ext cx="1180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brocartilag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llus 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27"/>
            <p:cNvSpPr/>
            <p:nvPr/>
          </p:nvSpPr>
          <p:spPr>
            <a:xfrm>
              <a:off x="5191200" y="4624560"/>
              <a:ext cx="858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ny callus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Stages in the Healing of a Bone Fracture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7353720" y="601992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5, step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5"/>
          <p:cNvGrpSpPr/>
          <p:nvPr/>
        </p:nvGrpSpPr>
        <p:grpSpPr>
          <a:xfrm>
            <a:off x="438120" y="1843200"/>
            <a:ext cx="7989120" cy="3146760"/>
            <a:chOff x="438120" y="1843200"/>
            <a:chExt cx="7989120" cy="3146760"/>
          </a:xfrm>
        </p:grpSpPr>
        <p:pic>
          <p:nvPicPr>
            <p:cNvPr id="189" name="Picture 6" descr="_x000b_05_05Figure                                                    000447CA&#10;Maxtor 300                     BFF2A1C5:"/>
            <p:cNvPicPr/>
            <p:nvPr/>
          </p:nvPicPr>
          <p:blipFill>
            <a:blip r:embed="rId1"/>
            <a:stretch/>
          </p:blipFill>
          <p:spPr>
            <a:xfrm>
              <a:off x="438120" y="1843200"/>
              <a:ext cx="7986600" cy="29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Freeform 7"/>
            <p:cNvSpPr/>
            <p:nvPr/>
          </p:nvSpPr>
          <p:spPr>
            <a:xfrm>
              <a:off x="1892160" y="2309760"/>
              <a:ext cx="187560" cy="45108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8"/>
            <p:cNvSpPr/>
            <p:nvPr/>
          </p:nvSpPr>
          <p:spPr>
            <a:xfrm>
              <a:off x="4111560" y="2544840"/>
              <a:ext cx="168480" cy="43812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 flipH="1">
              <a:off x="2695680" y="3208320"/>
              <a:ext cx="48240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10"/>
            <p:cNvSpPr/>
            <p:nvPr/>
          </p:nvSpPr>
          <p:spPr>
            <a:xfrm>
              <a:off x="3844800" y="3392640"/>
              <a:ext cx="4543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1"/>
            <p:cNvSpPr/>
            <p:nvPr/>
          </p:nvSpPr>
          <p:spPr>
            <a:xfrm>
              <a:off x="3895560" y="3639960"/>
              <a:ext cx="254160" cy="47628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12"/>
            <p:cNvSpPr/>
            <p:nvPr/>
          </p:nvSpPr>
          <p:spPr>
            <a:xfrm>
              <a:off x="5853240" y="2560680"/>
              <a:ext cx="463320" cy="71424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13"/>
            <p:cNvSpPr/>
            <p:nvPr/>
          </p:nvSpPr>
          <p:spPr>
            <a:xfrm>
              <a:off x="1892160" y="2309760"/>
              <a:ext cx="187560" cy="45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14"/>
            <p:cNvSpPr/>
            <p:nvPr/>
          </p:nvSpPr>
          <p:spPr>
            <a:xfrm flipH="1">
              <a:off x="6897240" y="3468600"/>
              <a:ext cx="250920" cy="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15"/>
            <p:cNvSpPr/>
            <p:nvPr/>
          </p:nvSpPr>
          <p:spPr>
            <a:xfrm>
              <a:off x="2733840" y="3208320"/>
              <a:ext cx="444240" cy="14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16"/>
            <p:cNvSpPr/>
            <p:nvPr/>
          </p:nvSpPr>
          <p:spPr>
            <a:xfrm>
              <a:off x="4111560" y="2544840"/>
              <a:ext cx="165240" cy="43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17"/>
            <p:cNvSpPr/>
            <p:nvPr/>
          </p:nvSpPr>
          <p:spPr>
            <a:xfrm>
              <a:off x="3895560" y="3639960"/>
              <a:ext cx="254160" cy="476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18"/>
            <p:cNvSpPr/>
            <p:nvPr/>
          </p:nvSpPr>
          <p:spPr>
            <a:xfrm>
              <a:off x="5853240" y="2560680"/>
              <a:ext cx="463320" cy="714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3844800" y="3392640"/>
              <a:ext cx="454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20"/>
            <p:cNvSpPr/>
            <p:nvPr/>
          </p:nvSpPr>
          <p:spPr>
            <a:xfrm>
              <a:off x="6934320" y="3468600"/>
              <a:ext cx="214200" cy="18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21"/>
            <p:cNvSpPr/>
            <p:nvPr/>
          </p:nvSpPr>
          <p:spPr>
            <a:xfrm>
              <a:off x="2091600" y="2214720"/>
              <a:ext cx="78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mato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22"/>
            <p:cNvSpPr/>
            <p:nvPr/>
          </p:nvSpPr>
          <p:spPr>
            <a:xfrm>
              <a:off x="4289040" y="2459160"/>
              <a:ext cx="6040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ll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23"/>
            <p:cNvSpPr/>
            <p:nvPr/>
          </p:nvSpPr>
          <p:spPr>
            <a:xfrm>
              <a:off x="6325560" y="2465280"/>
              <a:ext cx="62100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n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llus of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ong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24"/>
            <p:cNvSpPr/>
            <p:nvPr/>
          </p:nvSpPr>
          <p:spPr>
            <a:xfrm>
              <a:off x="6333840" y="3370320"/>
              <a:ext cx="5691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ale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c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25"/>
            <p:cNvSpPr/>
            <p:nvPr/>
          </p:nvSpPr>
          <p:spPr>
            <a:xfrm>
              <a:off x="4309560" y="3300480"/>
              <a:ext cx="5554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oo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ss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26"/>
            <p:cNvSpPr/>
            <p:nvPr/>
          </p:nvSpPr>
          <p:spPr>
            <a:xfrm>
              <a:off x="2095920" y="3103560"/>
              <a:ext cx="7567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na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llus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fibrous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issue an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tilag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27"/>
            <p:cNvSpPr/>
            <p:nvPr/>
          </p:nvSpPr>
          <p:spPr>
            <a:xfrm>
              <a:off x="4165200" y="4027320"/>
              <a:ext cx="6804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ong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n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becu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28"/>
            <p:cNvSpPr/>
            <p:nvPr/>
          </p:nvSpPr>
          <p:spPr>
            <a:xfrm>
              <a:off x="907560" y="4621320"/>
              <a:ext cx="780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matoma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29"/>
            <p:cNvSpPr/>
            <p:nvPr/>
          </p:nvSpPr>
          <p:spPr>
            <a:xfrm>
              <a:off x="3007080" y="4624560"/>
              <a:ext cx="1180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brocartilag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llus 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30"/>
            <p:cNvSpPr/>
            <p:nvPr/>
          </p:nvSpPr>
          <p:spPr>
            <a:xfrm>
              <a:off x="5191200" y="4624560"/>
              <a:ext cx="858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ny callus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31"/>
            <p:cNvSpPr/>
            <p:nvPr/>
          </p:nvSpPr>
          <p:spPr>
            <a:xfrm>
              <a:off x="7179840" y="4618080"/>
              <a:ext cx="1247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ne remode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cataylor</cp:lastModifiedBy>
  <cp:lastPrinted>2001-01-06T03:20:03Z</cp:lastPrinted>
  <dcterms:modified xsi:type="dcterms:W3CDTF">2012-09-19T17:40:04Z</dcterms:modified>
  <cp:revision>275</cp:revision>
  <dc:subject/>
  <dc:title>Nerve activates contraction</dc:title>
</cp:coreProperties>
</file>