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3760" y="2490480"/>
            <a:ext cx="3276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Skeletal System</a:t>
            </a:r>
            <a:endParaRPr b="1" lang="en-US" sz="32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, flattened, and usually curve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wo thin layers of compact bone surround a layer of spongy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lnSpc>
                <a:spcPct val="10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 Black"/>
              </a:rPr>
              <a:t>Example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ul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b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n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_x0012_05_01Figurec-L.jpg                                             004E43EE_x000c_EHAP_for_kym                   C37AF81A:"/>
          <p:cNvPicPr/>
          <p:nvPr/>
        </p:nvPicPr>
        <p:blipFill>
          <a:blip r:embed="rId1"/>
          <a:srcRect l="1732" t="2455" r="2942" b="7207"/>
          <a:stretch/>
        </p:blipFill>
        <p:spPr>
          <a:xfrm>
            <a:off x="2019240" y="1066680"/>
            <a:ext cx="51055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regular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rregular shap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fit into other bone classification categori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lnSpc>
                <a:spcPct val="10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 Black"/>
              </a:rPr>
              <a:t>Example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rtebrae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p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_x0012_05_01Figured-L.jpg                                             004E43EE_x000c_EHAP_for_kym                   C37AF81A:"/>
          <p:cNvPicPr/>
          <p:nvPr/>
        </p:nvPicPr>
        <p:blipFill>
          <a:blip r:embed="rId1"/>
          <a:srcRect l="1978" t="2594" r="1978" b="7311"/>
          <a:stretch/>
        </p:blipFill>
        <p:spPr>
          <a:xfrm>
            <a:off x="1600200" y="1109520"/>
            <a:ext cx="59436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aphysi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f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sed of compact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physis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s of the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sed mostly of spongy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_x0012_05_02Figurea-L.jpg                                             004E43EE_x000c_EHAP_for_kym                   C37AF81A:"/>
          <p:cNvPicPr/>
          <p:nvPr/>
        </p:nvPicPr>
        <p:blipFill>
          <a:blip r:embed="rId1"/>
          <a:srcRect l="1798" t="1215" r="3463" b="4764"/>
          <a:stretch/>
        </p:blipFill>
        <p:spPr>
          <a:xfrm>
            <a:off x="2730600" y="1066680"/>
            <a:ext cx="3682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ioste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tside covering of the diaphysi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brous connective tissue membra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harpey’s fiber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ure periosteum to underlying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rteri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upply bone cells with nutrie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_x0012_05_02Figurec-L.jpg                                             004E43EE_x000c_EHAP_for_kym                   C37AF81A:"/>
          <p:cNvPicPr/>
          <p:nvPr/>
        </p:nvPicPr>
        <p:blipFill>
          <a:blip r:embed="rId1"/>
          <a:srcRect l="9346" t="2213" r="10551" b="8163"/>
          <a:stretch/>
        </p:blipFill>
        <p:spPr>
          <a:xfrm>
            <a:off x="2392200" y="1066680"/>
            <a:ext cx="435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icular cartilag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ver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ernal surface of the epiphys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de of hyaline cartilag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reases friction at joint surfac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physeal plate  (growth plate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lat plate of hyaline cartilag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n in young, growing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physeal li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emnant of the epiphyseal plat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n in adult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Skeletal System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s of the skeletal syste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nes (skeleton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oi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tilag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game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subdivisions of the skelet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xial skelet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endicular skelet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_x0012_05_02Figurea-L.jpg                                             004E43EE_x000c_EHAP_for_kym                   C37AF81A:"/>
          <p:cNvPicPr/>
          <p:nvPr/>
        </p:nvPicPr>
        <p:blipFill>
          <a:blip r:embed="rId1"/>
          <a:srcRect l="1798" t="1215" r="3463" b="4764"/>
          <a:stretch/>
        </p:blipFill>
        <p:spPr>
          <a:xfrm>
            <a:off x="2730600" y="1066680"/>
            <a:ext cx="3682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ullary cavity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vity inside of the shaf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llow marrow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(mostly fat)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marrow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(for blood cell formation)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a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natomy of a Long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pic>
        <p:nvPicPr>
          <p:cNvPr id="147" name="Picture 6" descr="_x0012_05_02Figurea-L.jpg                                             004E43EE_x000c_EHAP_for_kym                   C37AF81A:"/>
          <p:cNvPicPr/>
          <p:nvPr/>
        </p:nvPicPr>
        <p:blipFill>
          <a:blip r:embed="rId1"/>
          <a:srcRect l="1798" t="1215" r="3463" b="4764"/>
          <a:stretch/>
        </p:blipFill>
        <p:spPr>
          <a:xfrm>
            <a:off x="2730600" y="1066680"/>
            <a:ext cx="3682800" cy="5105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 Marking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urface features of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tes of attachments for muscles, tendons, and ligame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assages for nerves and blood vesse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ategories of bone marking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ojections or processes—grow out from the bone surfac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epressions or cavities—indentatio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 Marking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353360" y="601992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Table 5.1 (1 of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_x0012_05_T01Table1-L.jpg                                             004E43EE_x000c_EHAP_for_kym                   C37AF81A:"/>
          <p:cNvPicPr/>
          <p:nvPr/>
        </p:nvPicPr>
        <p:blipFill>
          <a:blip r:embed="rId1"/>
          <a:srcRect l="0" t="2136" r="0" b="4794"/>
          <a:stretch/>
        </p:blipFill>
        <p:spPr>
          <a:xfrm>
            <a:off x="652320" y="1108080"/>
            <a:ext cx="78393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 Marking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353360" y="601992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Table 5.1 (2 of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_x0012_05_T01Table2-L.jpg                                             004E43EE_x000c_EHAP_for_kym                   C37AF81A:"/>
          <p:cNvPicPr/>
          <p:nvPr/>
        </p:nvPicPr>
        <p:blipFill>
          <a:blip r:embed="rId1"/>
          <a:srcRect l="1164" t="1215" r="1145" b="5951"/>
          <a:stretch/>
        </p:blipFill>
        <p:spPr>
          <a:xfrm>
            <a:off x="1504800" y="1035000"/>
            <a:ext cx="61344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icroscopic Anatomy of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eon (Haversian system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nit of bone containing central canal and matrix ring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entr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Haversian) cana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ening in the center of an oste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ries blood vessels and nerv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erforat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Volkman’s) cana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anal perpendicular to the central cana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ries blood vessels and nerv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icroscopic Anatomy of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6" descr="_x0012_05_03Figurea-L.jpg                                             004E43EE_x000c_EHAP_for_kym                   C37AF81A:"/>
          <p:cNvPicPr/>
          <p:nvPr/>
        </p:nvPicPr>
        <p:blipFill>
          <a:blip r:embed="rId1"/>
          <a:srcRect l="799" t="1770" r="1678" b="5555"/>
          <a:stretch/>
        </p:blipFill>
        <p:spPr>
          <a:xfrm>
            <a:off x="914400" y="1143000"/>
            <a:ext cx="731520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icroscopic Anatomy of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cun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vities containing bone cells (osteocytes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nged in concentric ring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mell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ngs around the central cana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tes of lacun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icroscopic Anatomy of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770240" y="601992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3b–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_x0012_05_03Figureb-L.jpg                                             004E43EE_x000c_EHAP_for_kym                   C37AF81A:"/>
          <p:cNvPicPr/>
          <p:nvPr/>
        </p:nvPicPr>
        <p:blipFill>
          <a:blip r:embed="rId1"/>
          <a:srcRect l="11676" t="3802" r="11656" b="8516"/>
          <a:stretch/>
        </p:blipFill>
        <p:spPr>
          <a:xfrm>
            <a:off x="304920" y="14479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_x0012_05_03Figurec-L.jpg                                             004E43EE_x000c_EHAP_for_kym                   C37AF81A:"/>
          <p:cNvPicPr/>
          <p:nvPr/>
        </p:nvPicPr>
        <p:blipFill>
          <a:blip r:embed="rId2"/>
          <a:srcRect l="13372" t="3571" r="13347" b="8330"/>
          <a:stretch/>
        </p:blipFill>
        <p:spPr>
          <a:xfrm>
            <a:off x="5029200" y="1504800"/>
            <a:ext cx="36385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Functions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bod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ct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oft orga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llo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vement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due to attached skeletal muscl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ore minerals and fa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ood cell forma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icroscopic Anatomy of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analiculi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iny cana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Radiate from the central canal to lacun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rm a transport system connecting all bone cells to a nutrient suppl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Microscopic Anatomy of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_x0012_05_03Figureb-L.jpg                                             004E43EE_x000c_EHAP_for_kym                   C37AF81A:"/>
          <p:cNvPicPr/>
          <p:nvPr/>
        </p:nvPicPr>
        <p:blipFill>
          <a:blip r:embed="rId1"/>
          <a:srcRect l="11676" t="3802" r="11656" b="8516"/>
          <a:stretch/>
        </p:blipFill>
        <p:spPr>
          <a:xfrm>
            <a:off x="2057400" y="10666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Formation of the Human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embryos, the skeleton is primarily hyaline cartilag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uring development, much of this cartilage is replaced by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tilage remains in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isolated area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idge of the nos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s of rib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oin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 Growt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Ossification)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064880"/>
            <a:ext cx="8072640" cy="5259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piphyseal plates allow for lengthwise growth of long bones during childhoo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cartilage is continuously forme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lder cartilage becomes ossifie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tilage is broken dow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eoclasts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Enclosed cartilage is digested away, opening up a medullary cavit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ne replaces cartilage through the ac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eoblas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77" name="Ink 4"/>
          <p:cNvSpPr/>
          <p:nvPr/>
        </p:nvSpPr>
        <p:spPr>
          <a:xfrm>
            <a:off x="2224080" y="5054760"/>
            <a:ext cx="1616040" cy="187200"/>
          </a:xfrm>
          <a:custGeom>
            <a:avLst/>
            <a:gdLst/>
            <a:ahLst/>
            <a:rect l="l" t="t" r="r" b="b"/>
            <a:pathLst>
              <a:path w="4491" h="522">
                <a:moveTo>
                  <a:pt x="6176" y="14337"/>
                </a:moveTo>
                <a:cubicBezTo>
                  <a:pt x="6284" y="14354"/>
                  <a:pt x="6391" y="14357"/>
                  <a:pt x="6499" y="14387"/>
                </a:cubicBezTo>
                <a:cubicBezTo>
                  <a:pt x="6611" y="14418"/>
                  <a:pt x="6706" y="14434"/>
                  <a:pt x="6821" y="14436"/>
                </a:cubicBezTo>
                <a:cubicBezTo>
                  <a:pt x="6933" y="14438"/>
                  <a:pt x="7036" y="14453"/>
                  <a:pt x="7144" y="14461"/>
                </a:cubicBezTo>
                <a:cubicBezTo>
                  <a:pt x="7548" y="14491"/>
                  <a:pt x="8021" y="14374"/>
                  <a:pt x="8409" y="14486"/>
                </a:cubicBezTo>
                <a:cubicBezTo>
                  <a:pt x="8443" y="14496"/>
                  <a:pt x="8528" y="14496"/>
                  <a:pt x="8558" y="14511"/>
                </a:cubicBezTo>
                <a:cubicBezTo>
                  <a:pt x="8628" y="14546"/>
                  <a:pt x="8589" y="14549"/>
                  <a:pt x="8657" y="14560"/>
                </a:cubicBezTo>
                <a:cubicBezTo>
                  <a:pt x="8971" y="14612"/>
                  <a:pt x="10426" y="14751"/>
                  <a:pt x="10641" y="14536"/>
                </a:cubicBezTo>
                <a:cubicBezTo>
                  <a:pt x="10665" y="14512"/>
                  <a:pt x="10659" y="14494"/>
                  <a:pt x="10666" y="14461"/>
                </a:cubicBezTo>
                <a:cubicBezTo>
                  <a:pt x="10679" y="14398"/>
                  <a:pt x="10664" y="14337"/>
                  <a:pt x="10641" y="14288"/>
                </a:cubicBezTo>
                <a:cubicBezTo>
                  <a:pt x="10621" y="14244"/>
                  <a:pt x="10589" y="14211"/>
                  <a:pt x="10567" y="14188"/>
                </a:cubicBezTo>
                <a:cubicBezTo>
                  <a:pt x="10546" y="14166"/>
                  <a:pt x="10542" y="14159"/>
                  <a:pt x="10517" y="14139"/>
                </a:cubicBezTo>
                <a:cubicBezTo>
                  <a:pt x="10470" y="14102"/>
                  <a:pt x="10474" y="14098"/>
                  <a:pt x="10418" y="14089"/>
                </a:cubicBezTo>
                <a:cubicBezTo>
                  <a:pt x="10015" y="14024"/>
                  <a:pt x="9543" y="14079"/>
                  <a:pt x="9153" y="14039"/>
                </a:cubicBezTo>
                <a:cubicBezTo>
                  <a:pt x="8529" y="13974"/>
                  <a:pt x="6847" y="13739"/>
                  <a:pt x="6276" y="14064"/>
                </a:cubicBezTo>
                <a:cubicBezTo>
                  <a:pt x="6257" y="14075"/>
                  <a:pt x="6209" y="14129"/>
                  <a:pt x="6201" y="14139"/>
                </a:cubicBezTo>
                <a:cubicBezTo>
                  <a:pt x="6201" y="14147"/>
                  <a:pt x="6201" y="14155"/>
                  <a:pt x="6201" y="14163"/>
                </a:cubicBezTo>
                <a:cubicBezTo>
                  <a:pt x="6202" y="14163"/>
                  <a:pt x="6262" y="14187"/>
                  <a:pt x="6300" y="14188"/>
                </a:cubicBezTo>
                <a:cubicBezTo>
                  <a:pt x="6584" y="14197"/>
                  <a:pt x="6896" y="14150"/>
                  <a:pt x="7169" y="14213"/>
                </a:cubicBezTo>
                <a:cubicBezTo>
                  <a:pt x="7208" y="14222"/>
                  <a:pt x="7252" y="14226"/>
                  <a:pt x="7293" y="14238"/>
                </a:cubicBezTo>
                <a:cubicBezTo>
                  <a:pt x="7363" y="14259"/>
                  <a:pt x="7415" y="14290"/>
                  <a:pt x="7491" y="14288"/>
                </a:cubicBezTo>
                <a:cubicBezTo>
                  <a:pt x="7631" y="14284"/>
                  <a:pt x="7823" y="14192"/>
                  <a:pt x="7962" y="14163"/>
                </a:cubicBezTo>
                <a:cubicBezTo>
                  <a:pt x="8033" y="14148"/>
                  <a:pt x="8084" y="14141"/>
                  <a:pt x="8161" y="14139"/>
                </a:cubicBezTo>
                <a:cubicBezTo>
                  <a:pt x="8325" y="14135"/>
                  <a:pt x="8469" y="14134"/>
                  <a:pt x="8607" y="14188"/>
                </a:cubicBezTo>
                <a:cubicBezTo>
                  <a:pt x="8663" y="14210"/>
                  <a:pt x="8696" y="14236"/>
                  <a:pt x="8756" y="14263"/>
                </a:cubicBezTo>
                <a:cubicBezTo>
                  <a:pt x="8786" y="14277"/>
                  <a:pt x="8835" y="14286"/>
                  <a:pt x="8855" y="14288"/>
                </a:cubicBezTo>
                <a:cubicBezTo>
                  <a:pt x="9270" y="14333"/>
                  <a:pt x="9710" y="14276"/>
                  <a:pt x="10120" y="14312"/>
                </a:cubicBezTo>
                <a:cubicBezTo>
                  <a:pt x="10250" y="14323"/>
                  <a:pt x="10386" y="14312"/>
                  <a:pt x="10517" y="14312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nk 5"/>
          <p:cNvSpPr/>
          <p:nvPr/>
        </p:nvSpPr>
        <p:spPr>
          <a:xfrm>
            <a:off x="5581800" y="3251160"/>
            <a:ext cx="1633320" cy="133560"/>
          </a:xfrm>
          <a:custGeom>
            <a:avLst/>
            <a:gdLst/>
            <a:ahLst/>
            <a:rect l="l" t="t" r="r" b="b"/>
            <a:pathLst>
              <a:path w="4540" h="373">
                <a:moveTo>
                  <a:pt x="15503" y="9079"/>
                </a:moveTo>
                <a:cubicBezTo>
                  <a:pt x="15596" y="9072"/>
                  <a:pt x="15682" y="9057"/>
                  <a:pt x="15776" y="9054"/>
                </a:cubicBezTo>
                <a:cubicBezTo>
                  <a:pt x="16046" y="9046"/>
                  <a:pt x="16341" y="9053"/>
                  <a:pt x="16594" y="9079"/>
                </a:cubicBezTo>
                <a:cubicBezTo>
                  <a:pt x="17359" y="9159"/>
                  <a:pt x="18605" y="9241"/>
                  <a:pt x="19348" y="9054"/>
                </a:cubicBezTo>
                <a:cubicBezTo>
                  <a:pt x="19397" y="9042"/>
                  <a:pt x="19445" y="9036"/>
                  <a:pt x="19496" y="9029"/>
                </a:cubicBezTo>
                <a:cubicBezTo>
                  <a:pt x="19671" y="9006"/>
                  <a:pt x="19865" y="9029"/>
                  <a:pt x="20042" y="9029"/>
                </a:cubicBezTo>
                <a:cubicBezTo>
                  <a:pt x="20042" y="9136"/>
                  <a:pt x="20042" y="9244"/>
                  <a:pt x="20042" y="9351"/>
                </a:cubicBezTo>
                <a:cubicBezTo>
                  <a:pt x="19723" y="9351"/>
                  <a:pt x="19358" y="9309"/>
                  <a:pt x="19050" y="9376"/>
                </a:cubicBezTo>
                <a:cubicBezTo>
                  <a:pt x="18849" y="9420"/>
                  <a:pt x="18635" y="9401"/>
                  <a:pt x="18430" y="9401"/>
                </a:cubicBezTo>
                <a:cubicBezTo>
                  <a:pt x="17479" y="9401"/>
                  <a:pt x="16528" y="9401"/>
                  <a:pt x="15577" y="940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 Growth (Ossification)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ne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odeled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ngthened until growth stop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ne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odeled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in response to two factor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lood calcium leve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ull of gravity and muscles on the skelet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nes grow in width (called appositional growth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ong Bone Formation and Growth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35660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4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600480" y="1127160"/>
            <a:ext cx="7939800" cy="4892400"/>
            <a:chOff x="600480" y="1127160"/>
            <a:chExt cx="7939800" cy="4892400"/>
          </a:xfrm>
        </p:grpSpPr>
        <p:pic>
          <p:nvPicPr>
            <p:cNvPr id="184" name="Picture 18" descr="_x0010_05_04Figurea.jpg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603000" y="1184760"/>
              <a:ext cx="7007760" cy="43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Freeform 19"/>
            <p:cNvSpPr/>
            <p:nvPr/>
          </p:nvSpPr>
          <p:spPr>
            <a:xfrm>
              <a:off x="1021320" y="3745080"/>
              <a:ext cx="640080" cy="20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6158520" y="2108520"/>
              <a:ext cx="37512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5946480" y="1251000"/>
              <a:ext cx="907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>
              <a:off x="5841720" y="1717200"/>
              <a:ext cx="529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3184560" y="3275280"/>
              <a:ext cx="554040" cy="12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1283040" y="4732200"/>
              <a:ext cx="381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1132560" y="4963680"/>
              <a:ext cx="532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 flipV="1">
              <a:off x="3794040" y="1995480"/>
              <a:ext cx="108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27"/>
            <p:cNvSpPr/>
            <p:nvPr/>
          </p:nvSpPr>
          <p:spPr>
            <a:xfrm>
              <a:off x="3120120" y="2199600"/>
              <a:ext cx="510480" cy="35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3756960" y="3681720"/>
              <a:ext cx="1308960" cy="143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>
              <a:off x="6066360" y="4409640"/>
              <a:ext cx="771840" cy="333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6166080" y="4820400"/>
              <a:ext cx="481680" cy="162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7013880" y="2193840"/>
              <a:ext cx="630720" cy="22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5690880" y="3836160"/>
              <a:ext cx="32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3"/>
            <p:cNvSpPr/>
            <p:nvPr/>
          </p:nvSpPr>
          <p:spPr>
            <a:xfrm>
              <a:off x="1689480" y="3636360"/>
              <a:ext cx="983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start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repla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34"/>
            <p:cNvSpPr/>
            <p:nvPr/>
          </p:nvSpPr>
          <p:spPr>
            <a:xfrm>
              <a:off x="5119560" y="2530440"/>
              <a:ext cx="808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iphyse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35"/>
            <p:cNvSpPr/>
            <p:nvPr/>
          </p:nvSpPr>
          <p:spPr>
            <a:xfrm>
              <a:off x="5119200" y="1127160"/>
              <a:ext cx="63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icula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36"/>
            <p:cNvSpPr/>
            <p:nvPr/>
          </p:nvSpPr>
          <p:spPr>
            <a:xfrm>
              <a:off x="5121720" y="1595880"/>
              <a:ext cx="560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7"/>
            <p:cNvSpPr/>
            <p:nvPr/>
          </p:nvSpPr>
          <p:spPr>
            <a:xfrm>
              <a:off x="6607080" y="5540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 chi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8"/>
            <p:cNvSpPr/>
            <p:nvPr/>
          </p:nvSpPr>
          <p:spPr>
            <a:xfrm>
              <a:off x="3309120" y="554004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 fe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9"/>
            <p:cNvSpPr/>
            <p:nvPr/>
          </p:nvSpPr>
          <p:spPr>
            <a:xfrm>
              <a:off x="600480" y="554004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n embr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40"/>
            <p:cNvSpPr/>
            <p:nvPr/>
          </p:nvSpPr>
          <p:spPr>
            <a:xfrm>
              <a:off x="7671600" y="2300400"/>
              <a:ext cx="72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1"/>
            <p:cNvSpPr/>
            <p:nvPr/>
          </p:nvSpPr>
          <p:spPr>
            <a:xfrm>
              <a:off x="7511760" y="2964600"/>
              <a:ext cx="543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d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42"/>
            <p:cNvSpPr/>
            <p:nvPr/>
          </p:nvSpPr>
          <p:spPr>
            <a:xfrm>
              <a:off x="4318920" y="3844440"/>
              <a:ext cx="543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43"/>
            <p:cNvSpPr/>
            <p:nvPr/>
          </p:nvSpPr>
          <p:spPr>
            <a:xfrm>
              <a:off x="5118480" y="4867560"/>
              <a:ext cx="1029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iphyse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e 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44"/>
            <p:cNvSpPr/>
            <p:nvPr/>
          </p:nvSpPr>
          <p:spPr>
            <a:xfrm>
              <a:off x="5121000" y="4281480"/>
              <a:ext cx="72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45"/>
            <p:cNvSpPr/>
            <p:nvPr/>
          </p:nvSpPr>
          <p:spPr>
            <a:xfrm>
              <a:off x="5117040" y="3714840"/>
              <a:ext cx="555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6"/>
            <p:cNvSpPr/>
            <p:nvPr/>
          </p:nvSpPr>
          <p:spPr>
            <a:xfrm>
              <a:off x="3504600" y="1568160"/>
              <a:ext cx="63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ali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1827360" y="2085120"/>
              <a:ext cx="100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center of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grow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8"/>
            <p:cNvSpPr/>
            <p:nvPr/>
          </p:nvSpPr>
          <p:spPr>
            <a:xfrm>
              <a:off x="2265480" y="3161880"/>
              <a:ext cx="713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ullar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9"/>
            <p:cNvSpPr/>
            <p:nvPr/>
          </p:nvSpPr>
          <p:spPr>
            <a:xfrm>
              <a:off x="1688760" y="463464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col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50"/>
            <p:cNvSpPr/>
            <p:nvPr/>
          </p:nvSpPr>
          <p:spPr>
            <a:xfrm>
              <a:off x="1688040" y="4868640"/>
              <a:ext cx="630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ali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51"/>
            <p:cNvSpPr/>
            <p:nvPr/>
          </p:nvSpPr>
          <p:spPr>
            <a:xfrm>
              <a:off x="601560" y="583668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2"/>
            <p:cNvSpPr/>
            <p:nvPr/>
          </p:nvSpPr>
          <p:spPr>
            <a:xfrm>
              <a:off x="4587840" y="1140840"/>
              <a:ext cx="36900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53"/>
            <p:cNvSpPr/>
            <p:nvPr/>
          </p:nvSpPr>
          <p:spPr>
            <a:xfrm>
              <a:off x="8466480" y="266292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ong Bone Formation and Growth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353360" y="601992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4a, 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02280" y="1123920"/>
            <a:ext cx="7944480" cy="4889880"/>
            <a:chOff x="602280" y="1123920"/>
            <a:chExt cx="7944480" cy="4889880"/>
          </a:xfrm>
        </p:grpSpPr>
        <p:grpSp>
          <p:nvGrpSpPr>
            <p:cNvPr id="223" name="Group 5"/>
            <p:cNvGrpSpPr/>
            <p:nvPr/>
          </p:nvGrpSpPr>
          <p:grpSpPr>
            <a:xfrm>
              <a:off x="602280" y="1167840"/>
              <a:ext cx="7014240" cy="4845960"/>
              <a:chOff x="602280" y="1167840"/>
              <a:chExt cx="7014240" cy="4845960"/>
            </a:xfrm>
          </p:grpSpPr>
          <p:pic>
            <p:nvPicPr>
              <p:cNvPr id="224" name="Picture 6" descr="_x0010_05_04Figurea.jpg                                               000447CA&#10;Maxtor 300                     BFF2A1C5:"/>
              <p:cNvPicPr/>
              <p:nvPr/>
            </p:nvPicPr>
            <p:blipFill>
              <a:blip r:embed="rId1"/>
              <a:stretch/>
            </p:blipFill>
            <p:spPr>
              <a:xfrm>
                <a:off x="604800" y="1167840"/>
                <a:ext cx="7011720" cy="436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Freeform 7"/>
              <p:cNvSpPr/>
              <p:nvPr/>
            </p:nvSpPr>
            <p:spPr>
              <a:xfrm>
                <a:off x="1023480" y="3729600"/>
                <a:ext cx="640440" cy="201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8"/>
              <p:cNvSpPr/>
              <p:nvPr/>
            </p:nvSpPr>
            <p:spPr>
              <a:xfrm>
                <a:off x="1285200" y="4717800"/>
                <a:ext cx="381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9"/>
              <p:cNvSpPr/>
              <p:nvPr/>
            </p:nvSpPr>
            <p:spPr>
              <a:xfrm>
                <a:off x="1134360" y="4949280"/>
                <a:ext cx="53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0"/>
              <p:cNvSpPr/>
              <p:nvPr/>
            </p:nvSpPr>
            <p:spPr>
              <a:xfrm>
                <a:off x="1693080" y="3620880"/>
                <a:ext cx="98388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one starting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 replac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rtil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1"/>
              <p:cNvSpPr/>
              <p:nvPr/>
            </p:nvSpPr>
            <p:spPr>
              <a:xfrm>
                <a:off x="602280" y="5522040"/>
                <a:ext cx="95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 an embry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2"/>
              <p:cNvSpPr/>
              <p:nvPr/>
            </p:nvSpPr>
            <p:spPr>
              <a:xfrm>
                <a:off x="1692360" y="4622400"/>
                <a:ext cx="832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one col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3"/>
              <p:cNvSpPr/>
              <p:nvPr/>
            </p:nvSpPr>
            <p:spPr>
              <a:xfrm>
                <a:off x="1691280" y="4855680"/>
                <a:ext cx="63000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yalin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rtilag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4"/>
              <p:cNvSpPr/>
              <p:nvPr/>
            </p:nvSpPr>
            <p:spPr>
              <a:xfrm>
                <a:off x="603360" y="58309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Rectangle 15"/>
            <p:cNvSpPr/>
            <p:nvPr/>
          </p:nvSpPr>
          <p:spPr>
            <a:xfrm>
              <a:off x="4592160" y="1123920"/>
              <a:ext cx="36900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8472960" y="264708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ong Bone Formation and Growth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353360" y="601992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4a, 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602280" y="1123920"/>
            <a:ext cx="7944480" cy="4890240"/>
            <a:chOff x="602280" y="1123920"/>
            <a:chExt cx="7944480" cy="4890240"/>
          </a:xfrm>
        </p:grpSpPr>
        <p:pic>
          <p:nvPicPr>
            <p:cNvPr id="238" name="Picture 5" descr="_x0010_05_04Figurea.jpg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604800" y="1167840"/>
              <a:ext cx="7011720" cy="43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Freeform 6"/>
            <p:cNvSpPr/>
            <p:nvPr/>
          </p:nvSpPr>
          <p:spPr>
            <a:xfrm>
              <a:off x="1023480" y="3729960"/>
              <a:ext cx="640440" cy="20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3187800" y="3259800"/>
              <a:ext cx="554040" cy="12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1285200" y="4718160"/>
              <a:ext cx="381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1134360" y="4949640"/>
              <a:ext cx="53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 flipV="1">
              <a:off x="3797640" y="1979280"/>
              <a:ext cx="108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123360" y="2183400"/>
              <a:ext cx="510840" cy="35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3760920" y="3666600"/>
              <a:ext cx="1309680" cy="143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1693080" y="3621240"/>
              <a:ext cx="983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start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repla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3311640" y="552240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 fe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602280" y="552240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n embr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4323240" y="3830760"/>
              <a:ext cx="543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5122440" y="3699720"/>
              <a:ext cx="555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3507120" y="1551600"/>
              <a:ext cx="63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ali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1830240" y="2070000"/>
              <a:ext cx="100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center of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grow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2267640" y="3146400"/>
              <a:ext cx="713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ullar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1"/>
            <p:cNvSpPr/>
            <p:nvPr/>
          </p:nvSpPr>
          <p:spPr>
            <a:xfrm>
              <a:off x="1692360" y="462276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col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691280" y="4854600"/>
              <a:ext cx="630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ali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603360" y="583128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4592160" y="1123920"/>
              <a:ext cx="36900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5"/>
            <p:cNvSpPr/>
            <p:nvPr/>
          </p:nvSpPr>
          <p:spPr>
            <a:xfrm>
              <a:off x="8472960" y="264708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ong Bone Formation and Growth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353360" y="601992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4a, 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602280" y="1123920"/>
            <a:ext cx="7944480" cy="4889160"/>
            <a:chOff x="602280" y="1123920"/>
            <a:chExt cx="7944480" cy="4889160"/>
          </a:xfrm>
        </p:grpSpPr>
        <p:pic>
          <p:nvPicPr>
            <p:cNvPr id="262" name="Picture 5" descr="_x0010_05_04Figurea.jpg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604800" y="1181520"/>
              <a:ext cx="7011720" cy="43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Freeform 6"/>
            <p:cNvSpPr/>
            <p:nvPr/>
          </p:nvSpPr>
          <p:spPr>
            <a:xfrm>
              <a:off x="1023480" y="3735720"/>
              <a:ext cx="640440" cy="20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7"/>
            <p:cNvSpPr/>
            <p:nvPr/>
          </p:nvSpPr>
          <p:spPr>
            <a:xfrm>
              <a:off x="6163560" y="2103120"/>
              <a:ext cx="375480" cy="530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5951520" y="1247400"/>
              <a:ext cx="908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5846760" y="1712520"/>
              <a:ext cx="529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0"/>
            <p:cNvSpPr/>
            <p:nvPr/>
          </p:nvSpPr>
          <p:spPr>
            <a:xfrm>
              <a:off x="3187800" y="3266640"/>
              <a:ext cx="554040" cy="12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1"/>
            <p:cNvSpPr/>
            <p:nvPr/>
          </p:nvSpPr>
          <p:spPr>
            <a:xfrm>
              <a:off x="1285200" y="4720680"/>
              <a:ext cx="381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2"/>
            <p:cNvSpPr/>
            <p:nvPr/>
          </p:nvSpPr>
          <p:spPr>
            <a:xfrm>
              <a:off x="1134360" y="4951440"/>
              <a:ext cx="53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V="1">
              <a:off x="3797640" y="1989720"/>
              <a:ext cx="108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14"/>
            <p:cNvSpPr/>
            <p:nvPr/>
          </p:nvSpPr>
          <p:spPr>
            <a:xfrm>
              <a:off x="3123360" y="2193840"/>
              <a:ext cx="510840" cy="35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15"/>
            <p:cNvSpPr/>
            <p:nvPr/>
          </p:nvSpPr>
          <p:spPr>
            <a:xfrm>
              <a:off x="3760920" y="3672360"/>
              <a:ext cx="130968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16"/>
            <p:cNvSpPr/>
            <p:nvPr/>
          </p:nvSpPr>
          <p:spPr>
            <a:xfrm>
              <a:off x="6071400" y="4398480"/>
              <a:ext cx="772200" cy="332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17"/>
            <p:cNvSpPr/>
            <p:nvPr/>
          </p:nvSpPr>
          <p:spPr>
            <a:xfrm>
              <a:off x="6171480" y="4808520"/>
              <a:ext cx="482040" cy="162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18"/>
            <p:cNvSpPr/>
            <p:nvPr/>
          </p:nvSpPr>
          <p:spPr>
            <a:xfrm>
              <a:off x="7019640" y="2188080"/>
              <a:ext cx="631080" cy="2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5695920" y="3826440"/>
              <a:ext cx="32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1693080" y="3628080"/>
              <a:ext cx="983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start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repla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5124240" y="2523960"/>
              <a:ext cx="808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iphyse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5123520" y="1123920"/>
              <a:ext cx="63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icula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23"/>
            <p:cNvSpPr/>
            <p:nvPr/>
          </p:nvSpPr>
          <p:spPr>
            <a:xfrm>
              <a:off x="5126040" y="1591560"/>
              <a:ext cx="560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>
              <a:off x="6610320" y="552492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 chi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5"/>
            <p:cNvSpPr/>
            <p:nvPr/>
          </p:nvSpPr>
          <p:spPr>
            <a:xfrm>
              <a:off x="3311640" y="552492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 fe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26"/>
            <p:cNvSpPr/>
            <p:nvPr/>
          </p:nvSpPr>
          <p:spPr>
            <a:xfrm>
              <a:off x="602280" y="55249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an embr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27"/>
            <p:cNvSpPr/>
            <p:nvPr/>
          </p:nvSpPr>
          <p:spPr>
            <a:xfrm>
              <a:off x="7678080" y="2294280"/>
              <a:ext cx="72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28"/>
            <p:cNvSpPr/>
            <p:nvPr/>
          </p:nvSpPr>
          <p:spPr>
            <a:xfrm>
              <a:off x="7513920" y="2958480"/>
              <a:ext cx="543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d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9"/>
            <p:cNvSpPr/>
            <p:nvPr/>
          </p:nvSpPr>
          <p:spPr>
            <a:xfrm>
              <a:off x="4323240" y="3837600"/>
              <a:ext cx="543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30"/>
            <p:cNvSpPr/>
            <p:nvPr/>
          </p:nvSpPr>
          <p:spPr>
            <a:xfrm>
              <a:off x="5123160" y="4856400"/>
              <a:ext cx="1029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iphyse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e 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31"/>
            <p:cNvSpPr/>
            <p:nvPr/>
          </p:nvSpPr>
          <p:spPr>
            <a:xfrm>
              <a:off x="5125680" y="4273560"/>
              <a:ext cx="72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>
              <a:off x="5122440" y="3706920"/>
              <a:ext cx="555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33"/>
            <p:cNvSpPr/>
            <p:nvPr/>
          </p:nvSpPr>
          <p:spPr>
            <a:xfrm>
              <a:off x="3507120" y="1562400"/>
              <a:ext cx="63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ali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34"/>
            <p:cNvSpPr/>
            <p:nvPr/>
          </p:nvSpPr>
          <p:spPr>
            <a:xfrm>
              <a:off x="1830240" y="2082600"/>
              <a:ext cx="100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center of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grow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35"/>
            <p:cNvSpPr/>
            <p:nvPr/>
          </p:nvSpPr>
          <p:spPr>
            <a:xfrm>
              <a:off x="2267640" y="3153960"/>
              <a:ext cx="713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ullar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1692360" y="462528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col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37"/>
            <p:cNvSpPr/>
            <p:nvPr/>
          </p:nvSpPr>
          <p:spPr>
            <a:xfrm>
              <a:off x="1691280" y="4856400"/>
              <a:ext cx="630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ali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38"/>
            <p:cNvSpPr/>
            <p:nvPr/>
          </p:nvSpPr>
          <p:spPr>
            <a:xfrm>
              <a:off x="603360" y="583020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39"/>
            <p:cNvSpPr/>
            <p:nvPr/>
          </p:nvSpPr>
          <p:spPr>
            <a:xfrm>
              <a:off x="4592160" y="1137600"/>
              <a:ext cx="36900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40"/>
            <p:cNvSpPr/>
            <p:nvPr/>
          </p:nvSpPr>
          <p:spPr>
            <a:xfrm>
              <a:off x="8472960" y="2656080"/>
              <a:ext cx="738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Long Bone Formation and Growth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17" descr="_x0012_05_04Figureb-L.jpg                                             004E43EE_x000c_EHAP_for_kym                   C37AF81A:"/>
          <p:cNvPicPr/>
          <p:nvPr/>
        </p:nvPicPr>
        <p:blipFill>
          <a:blip r:embed="rId1"/>
          <a:srcRect l="1039" t="1313" r="1021" b="6039"/>
          <a:stretch/>
        </p:blipFill>
        <p:spPr>
          <a:xfrm>
            <a:off x="1066680" y="1143000"/>
            <a:ext cx="662940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Human Body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adult skeleton h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6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wo basic types of bone tissu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ct bone  (dense, hard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omogeneo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ongy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all needle-like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eces of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y open spac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2" descr="_x0012_05_02Figureb-L.jpg                                             004E43EE_x000c_EHAP_for_kym                   C37AF81A:"/>
          <p:cNvPicPr/>
          <p:nvPr/>
        </p:nvPicPr>
        <p:blipFill>
          <a:blip r:embed="rId1"/>
          <a:srcRect l="1874" t="3666" r="2767" b="9606"/>
          <a:stretch/>
        </p:blipFill>
        <p:spPr>
          <a:xfrm>
            <a:off x="5334120" y="2895480"/>
            <a:ext cx="350496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ypes of Bone Cell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eocytes—mature bone cel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eoblasts—bone-forming cel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eoclasts—bone-destroying cel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reak down bone matrix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odeling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and release of calcium in response to parathyroid horm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ne remodeling is performed by both osteoblasts and osteoclas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 on the Basis of Shap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777096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9" descr="_x0011_05_01Figure-L.jpg                                              004E43EE_x000c_EHAP_for_kym                   C37AF81A:"/>
          <p:cNvPicPr/>
          <p:nvPr/>
        </p:nvPicPr>
        <p:blipFill>
          <a:blip r:embed="rId1"/>
          <a:srcRect l="1490" t="1215" r="1490" b="4764"/>
          <a:stretch/>
        </p:blipFill>
        <p:spPr>
          <a:xfrm>
            <a:off x="1828800" y="10126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ng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68256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ypicall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nger than they are wid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68256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a shaft with heads at both end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68256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The shaft is the diaphysis and the ends are the epiphysis-              e-pif-a seez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68256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ntain mostl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ct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682560" indent="-284040">
              <a:lnSpc>
                <a:spcPct val="10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 Black"/>
              </a:rPr>
              <a:t>Example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1383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mur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1383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mer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_x0012_05_01Figurea-L.jpg                                             004E43EE_x000c_EHAP_for_kym                   C37AF81A:"/>
          <p:cNvPicPr/>
          <p:nvPr/>
        </p:nvPicPr>
        <p:blipFill>
          <a:blip r:embed="rId1"/>
          <a:srcRect l="2452" t="2288" r="2419" b="5867"/>
          <a:stretch/>
        </p:blipFill>
        <p:spPr>
          <a:xfrm>
            <a:off x="2317680" y="1066680"/>
            <a:ext cx="4508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Generall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be-shap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ntain mostl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ongy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lnSpc>
                <a:spcPct val="10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 Black"/>
              </a:rPr>
              <a:t>Example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pa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rsal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assification of Bon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_x0012_05_01Figureb-L.jpg                                             004E43EE_x000c_EHAP_for_kym                   C37AF81A:"/>
          <p:cNvPicPr/>
          <p:nvPr/>
        </p:nvPicPr>
        <p:blipFill>
          <a:blip r:embed="rId1"/>
          <a:srcRect l="1099" t="1165" r="2398" b="5906"/>
          <a:stretch/>
        </p:blipFill>
        <p:spPr>
          <a:xfrm>
            <a:off x="2146320" y="1066680"/>
            <a:ext cx="4849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ataylor</cp:lastModifiedBy>
  <cp:lastPrinted>2001-01-06T03:20:03Z</cp:lastPrinted>
  <dcterms:modified xsi:type="dcterms:W3CDTF">2012-09-18T18:29:52Z</dcterms:modified>
  <cp:revision>318</cp:revision>
  <dc:subject/>
  <dc:title>Nerve activates contraction</dc:title>
</cp:coreProperties>
</file>