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2940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324480"/>
            <a:ext cx="9144000" cy="152280"/>
            <a:chOff x="0" y="6324480"/>
            <a:chExt cx="9144000" cy="152280"/>
          </a:xfrm>
        </p:grpSpPr>
        <p:sp>
          <p:nvSpPr>
            <p:cNvPr id="5" name="Line 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Line 10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6ba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334120" y="15228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Lecture Slide Pres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Patty Bostwick-Taylor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rence-Darlington Technical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181480" y="6400800"/>
            <a:ext cx="3886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0" y="5791320"/>
            <a:ext cx="9144000" cy="152280"/>
            <a:chOff x="0" y="5791320"/>
            <a:chExt cx="9144000" cy="152280"/>
          </a:xfrm>
        </p:grpSpPr>
        <p:sp>
          <p:nvSpPr>
            <p:cNvPr id="50" name="Line 8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9"/>
            <p:cNvSpPr/>
            <p:nvPr/>
          </p:nvSpPr>
          <p:spPr>
            <a:xfrm>
              <a:off x="0" y="586764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11" descr="51353Marieb9e_ecat"/>
          <p:cNvPicPr/>
          <p:nvPr/>
        </p:nvPicPr>
        <p:blipFill>
          <a:blip r:embed="rId2"/>
          <a:stretch/>
        </p:blipFill>
        <p:spPr>
          <a:xfrm>
            <a:off x="152280" y="228600"/>
            <a:ext cx="495324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7620120" y="5486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639a"/>
                </a:solidFill>
                <a:latin typeface="Arial"/>
              </a:rPr>
              <a:t>PAR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095880" y="464832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>
                <a:solidFill>
                  <a:srgbClr val="0a639a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52280" y="228600"/>
            <a:ext cx="495324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4120" y="2245680"/>
            <a:ext cx="3657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639a"/>
                </a:solidFill>
                <a:latin typeface="Arial"/>
              </a:rPr>
              <a:t>The Human Body: An Orientation</a:t>
            </a:r>
            <a:endParaRPr b="1" lang="en-US" sz="32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dy Caviti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rsal body cavit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anial cavity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house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ai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inal cavity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house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inal cor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ntral b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ody cavit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oracic cavity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hous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art, lungs and other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dominopelvic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 cavity hous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gestive system and most urinary system orga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dy Caviti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76808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6" descr="_x0011_01_07Figure-L.jpg                                              004E428B_x000c_EHAP_for_kym                   C37AF81A:"/>
          <p:cNvPicPr/>
          <p:nvPr/>
        </p:nvPicPr>
        <p:blipFill>
          <a:blip r:embed="rId1"/>
          <a:srcRect l="1501" t="1215" r="1472" b="3571"/>
          <a:stretch/>
        </p:blipFill>
        <p:spPr>
          <a:xfrm>
            <a:off x="2592360" y="1066680"/>
            <a:ext cx="39578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bdominopelvic Quadrant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76772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6" descr="_x0012_01_08Figurea-L.jpg                                             004E428B_x000c_EHAP_for_kym                   C37AF81A:"/>
          <p:cNvPicPr/>
          <p:nvPr/>
        </p:nvPicPr>
        <p:blipFill>
          <a:blip r:embed="rId1"/>
          <a:srcRect l="460" t="1215" r="425" b="3571"/>
          <a:stretch/>
        </p:blipFill>
        <p:spPr>
          <a:xfrm>
            <a:off x="2847960" y="1066680"/>
            <a:ext cx="34466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380880" y="1760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bdominopelvic Region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776772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8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5" descr="_x0012_01_08Figureb-L.jpg                                             004E428B_x000c_EHAP_for_kym                   C37AF81A:"/>
          <p:cNvPicPr/>
          <p:nvPr/>
        </p:nvPicPr>
        <p:blipFill>
          <a:blip r:embed="rId1"/>
          <a:srcRect l="0" t="1264" r="1669" b="3639"/>
          <a:stretch/>
        </p:blipFill>
        <p:spPr>
          <a:xfrm>
            <a:off x="2787480" y="1066680"/>
            <a:ext cx="37656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bdominopelvic Major Organ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776772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8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5" descr="_x0012_01_08Figurec-L.jpg                                             004E428B_x000c_EHAP_for_kym                   C37AF81A:"/>
          <p:cNvPicPr/>
          <p:nvPr/>
        </p:nvPicPr>
        <p:blipFill>
          <a:blip r:embed="rId1"/>
          <a:srcRect l="675" t="1093" r="2339" b="3477"/>
          <a:stretch/>
        </p:blipFill>
        <p:spPr>
          <a:xfrm>
            <a:off x="2725560" y="990720"/>
            <a:ext cx="36928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Language of Anatomy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065240"/>
            <a:ext cx="776772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pecial terminology is used to prevent misunderstanding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Exact terms are used fo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osi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Direc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gio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8" descr="_x0012_01_05Figurea-L.jpg                                             0016A591_x000b_ServDisk_05                    BE4022FB:"/>
          <p:cNvPicPr/>
          <p:nvPr/>
        </p:nvPicPr>
        <p:blipFill>
          <a:blip r:embed="rId1"/>
          <a:srcRect l="0" t="0" r="0" b="3571"/>
          <a:stretch/>
        </p:blipFill>
        <p:spPr>
          <a:xfrm>
            <a:off x="2908440" y="1523880"/>
            <a:ext cx="3325680" cy="4724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4"/>
          <p:cNvSpPr/>
          <p:nvPr/>
        </p:nvSpPr>
        <p:spPr>
          <a:xfrm>
            <a:off x="776772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5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Regional Term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nterior body landmark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2" descr="_x0012_01_05Figureb-L.jpg                                             0016A591_x000b_ServDisk_05                    BE4022FB:"/>
          <p:cNvPicPr/>
          <p:nvPr/>
        </p:nvPicPr>
        <p:blipFill>
          <a:blip r:embed="rId1"/>
          <a:srcRect l="0" t="0" r="0" b="3571"/>
          <a:stretch/>
        </p:blipFill>
        <p:spPr>
          <a:xfrm>
            <a:off x="2811600" y="1523880"/>
            <a:ext cx="3519360" cy="4724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Regional Term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5848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osterior body landmark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76772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5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Directional Term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pic>
        <p:nvPicPr>
          <p:cNvPr id="107" name="Picture 18" descr="_x0012_01_T01Table1-T.jpg                                             0016A591_x000b_ServDisk_05                    BE4022FB:"/>
          <p:cNvPicPr/>
          <p:nvPr/>
        </p:nvPicPr>
        <p:blipFill>
          <a:blip r:embed="rId1"/>
          <a:srcRect l="0" t="0" r="0" b="4638"/>
          <a:stretch/>
        </p:blipFill>
        <p:spPr>
          <a:xfrm>
            <a:off x="534960" y="1066680"/>
            <a:ext cx="8072640" cy="5011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5"/>
          <p:cNvSpPr/>
          <p:nvPr/>
        </p:nvSpPr>
        <p:spPr>
          <a:xfrm>
            <a:off x="7535880" y="601992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Table 1.1 (1 of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_x0012_01_T01Table2-T.jpg                                             0016A591_x000b_ServDisk_05                    BE4022FB:"/>
          <p:cNvPicPr/>
          <p:nvPr/>
        </p:nvPicPr>
        <p:blipFill>
          <a:blip r:embed="rId1"/>
          <a:srcRect l="0" t="0" r="0" b="5481"/>
          <a:stretch/>
        </p:blipFill>
        <p:spPr>
          <a:xfrm>
            <a:off x="690480" y="1004760"/>
            <a:ext cx="7763040" cy="5015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Directional Term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7535880" y="601992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Table 1.1 (2 of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Directional Term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535880" y="601992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Table 1.1 (3 of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_x0012_01_T01Table3-T.jpg                                             0016A591_x000b_ServDisk_05                    BE4022FB:"/>
          <p:cNvPicPr/>
          <p:nvPr/>
        </p:nvPicPr>
        <p:blipFill>
          <a:blip r:embed="rId1"/>
          <a:srcRect l="0" t="0" r="0" b="5182"/>
          <a:stretch/>
        </p:blipFill>
        <p:spPr>
          <a:xfrm>
            <a:off x="314280" y="1090440"/>
            <a:ext cx="851364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dy Planes and Section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agittal section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divides the body (or organ) in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ft and right par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median, or midsagittal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, section divides the body (or organ) in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qual left and right par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frontal section divides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 body (or organ) in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 and posterior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arts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transverse,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or cross, section divides the body (or organ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o superior and inferior par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dy Planes and Section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776808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_x0011_01_06Figure-L.jpg                                              004E428B_x000c_EHAP_for_kym                   C37AF81A:"/>
          <p:cNvPicPr/>
          <p:nvPr/>
        </p:nvPicPr>
        <p:blipFill>
          <a:blip r:embed="rId1"/>
          <a:srcRect l="1752" t="1193" r="1752" b="3546"/>
          <a:stretch/>
        </p:blipFill>
        <p:spPr>
          <a:xfrm>
            <a:off x="2336760" y="1066680"/>
            <a:ext cx="44686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ataylor</cp:lastModifiedBy>
  <cp:lastPrinted>2001-01-06T03:20:03Z</cp:lastPrinted>
  <dcterms:modified xsi:type="dcterms:W3CDTF">2012-08-13T18:54:47Z</dcterms:modified>
  <cp:revision>328</cp:revision>
  <dc:subject/>
  <dc:title>Nerve activates contraction</dc:title>
</cp:coreProperties>
</file>