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3760" y="248904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Human Body: An Orientation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Necessary Life Funct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duces future gener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w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creases cell size and number of cel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urvival Need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tri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hemicals for energy and cell building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cludes carbohydrates, proteins, lipids, vitamins, and minera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quired for chemical react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urvival Need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60–80% of body weigh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vides for metabolic reac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ble body temperatur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tmospheric pressure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ust be appropriat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Interrelationships Among Body Syste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7680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_x0011_01_03Figure-L.jpg                                              004E428B_x000c_EHAP_for_kym                   C37AF81A:"/>
          <p:cNvPicPr/>
          <p:nvPr/>
        </p:nvPicPr>
        <p:blipFill>
          <a:blip r:embed="rId1"/>
          <a:srcRect l="1064" t="1215" r="1064" b="3571"/>
          <a:stretch/>
        </p:blipFill>
        <p:spPr>
          <a:xfrm>
            <a:off x="2976480" y="1066680"/>
            <a:ext cx="319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Homeostasi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ostasis—maintenance of a stable internal environment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 dynamic state of equilibri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ostasis is necessary for normal body functioning and to sustain lif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ostatic imbalanc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disturbance in homeostasis resulting in diseas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5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356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3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30040"/>
            <a:ext cx="6853320" cy="5988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4"/>
          <p:cNvSpPr/>
          <p:nvPr/>
        </p:nvSpPr>
        <p:spPr>
          <a:xfrm>
            <a:off x="1010880" y="2768760"/>
            <a:ext cx="11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"/>
          <p:cNvSpPr/>
          <p:nvPr/>
        </p:nvSpPr>
        <p:spPr>
          <a:xfrm>
            <a:off x="849240" y="41752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"/>
          <p:cNvSpPr/>
          <p:nvPr/>
        </p:nvSpPr>
        <p:spPr>
          <a:xfrm>
            <a:off x="1333080" y="228600"/>
            <a:ext cx="1113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"/>
          <p:cNvSpPr/>
          <p:nvPr/>
        </p:nvSpPr>
        <p:spPr>
          <a:xfrm>
            <a:off x="1507320" y="1809720"/>
            <a:ext cx="173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8"/>
          <p:cNvSpPr/>
          <p:nvPr/>
        </p:nvSpPr>
        <p:spPr>
          <a:xfrm>
            <a:off x="6300360" y="17463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3520080" y="47181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6986880" y="3851280"/>
            <a:ext cx="152172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uen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itud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homeost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2"/>
          <p:cNvSpPr/>
          <p:nvPr/>
        </p:nvSpPr>
        <p:spPr>
          <a:xfrm>
            <a:off x="4168440" y="339840"/>
            <a:ext cx="72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3"/>
          <p:cNvSpPr/>
          <p:nvPr/>
        </p:nvSpPr>
        <p:spPr>
          <a:xfrm rot="1474800">
            <a:off x="2808000" y="42642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4"/>
          <p:cNvSpPr/>
          <p:nvPr/>
        </p:nvSpPr>
        <p:spPr>
          <a:xfrm rot="1474800">
            <a:off x="5090760" y="54990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1"/>
          <p:cNvSpPr/>
          <p:nvPr/>
        </p:nvSpPr>
        <p:spPr>
          <a:xfrm>
            <a:off x="6497280" y="434880"/>
            <a:ext cx="1867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7353360" y="601992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3" descr="_x0010_01_04Figure2.jpg    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28600"/>
            <a:ext cx="6853320" cy="598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4"/>
          <p:cNvSpPr/>
          <p:nvPr/>
        </p:nvSpPr>
        <p:spPr>
          <a:xfrm>
            <a:off x="3520080" y="47163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7353720" y="601992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4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28600"/>
            <a:ext cx="6853320" cy="5987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5"/>
          <p:cNvSpPr/>
          <p:nvPr/>
        </p:nvSpPr>
        <p:spPr>
          <a:xfrm>
            <a:off x="849240" y="41734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3520080" y="47163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7"/>
          <p:cNvSpPr/>
          <p:nvPr/>
        </p:nvSpPr>
        <p:spPr>
          <a:xfrm rot="1474800">
            <a:off x="2808000" y="42624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8"/>
          <p:cNvSpPr/>
          <p:nvPr/>
        </p:nvSpPr>
        <p:spPr>
          <a:xfrm rot="1474800">
            <a:off x="5090760" y="549756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0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28600"/>
            <a:ext cx="6853320" cy="5987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1"/>
          <p:cNvSpPr/>
          <p:nvPr/>
        </p:nvSpPr>
        <p:spPr>
          <a:xfrm>
            <a:off x="1010880" y="2766960"/>
            <a:ext cx="11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849240" y="41734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1507320" y="1808280"/>
            <a:ext cx="173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3520080" y="47163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5"/>
          <p:cNvSpPr/>
          <p:nvPr/>
        </p:nvSpPr>
        <p:spPr>
          <a:xfrm rot="1474800">
            <a:off x="2808000" y="42624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6"/>
          <p:cNvSpPr/>
          <p:nvPr/>
        </p:nvSpPr>
        <p:spPr>
          <a:xfrm rot="1474800">
            <a:off x="5090760" y="549756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6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7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30040"/>
            <a:ext cx="6853320" cy="5988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8"/>
          <p:cNvSpPr/>
          <p:nvPr/>
        </p:nvSpPr>
        <p:spPr>
          <a:xfrm>
            <a:off x="1010880" y="2768760"/>
            <a:ext cx="11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849240" y="41752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1333080" y="228600"/>
            <a:ext cx="1113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1"/>
          <p:cNvSpPr/>
          <p:nvPr/>
        </p:nvSpPr>
        <p:spPr>
          <a:xfrm>
            <a:off x="1507320" y="1809720"/>
            <a:ext cx="173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3520080" y="47181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3"/>
          <p:cNvSpPr/>
          <p:nvPr/>
        </p:nvSpPr>
        <p:spPr>
          <a:xfrm>
            <a:off x="4168440" y="339840"/>
            <a:ext cx="72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4"/>
          <p:cNvSpPr/>
          <p:nvPr/>
        </p:nvSpPr>
        <p:spPr>
          <a:xfrm rot="1474800">
            <a:off x="2808000" y="42642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5"/>
          <p:cNvSpPr/>
          <p:nvPr/>
        </p:nvSpPr>
        <p:spPr>
          <a:xfrm rot="1474800">
            <a:off x="5090760" y="54990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5"/>
          <p:cNvSpPr/>
          <p:nvPr/>
        </p:nvSpPr>
        <p:spPr>
          <a:xfrm>
            <a:off x="7767720" y="60199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rdiovascula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ransports materials in body</a:t>
            </a:r>
            <a:br>
              <a:rPr sz="2400"/>
            </a:b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ia blood pumped by hear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Oxyge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rbon dioxid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Nutri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Wast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99" name="Picture 28" descr="_x0012_01_02Figuref-L.jpg                                             004E428B_x000c_EHAP_for_kym                   C37AF81A:"/>
          <p:cNvPicPr/>
          <p:nvPr/>
        </p:nvPicPr>
        <p:blipFill>
          <a:blip r:embed="rId1"/>
          <a:srcRect l="10118" t="1142" r="5589" b="23858"/>
          <a:stretch/>
        </p:blipFill>
        <p:spPr>
          <a:xfrm>
            <a:off x="5945040" y="1063800"/>
            <a:ext cx="289404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2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1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30040"/>
            <a:ext cx="6853320" cy="59882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1010880" y="2768760"/>
            <a:ext cx="11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849240" y="41752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4"/>
          <p:cNvSpPr/>
          <p:nvPr/>
        </p:nvSpPr>
        <p:spPr>
          <a:xfrm>
            <a:off x="1333080" y="228600"/>
            <a:ext cx="1113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1507320" y="1809720"/>
            <a:ext cx="173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6300360" y="17463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520080" y="47181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8"/>
          <p:cNvSpPr/>
          <p:nvPr/>
        </p:nvSpPr>
        <p:spPr>
          <a:xfrm>
            <a:off x="6497280" y="434880"/>
            <a:ext cx="1867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4168440" y="339840"/>
            <a:ext cx="72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0"/>
          <p:cNvSpPr/>
          <p:nvPr/>
        </p:nvSpPr>
        <p:spPr>
          <a:xfrm rot="1474800">
            <a:off x="2808000" y="42642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1"/>
          <p:cNvSpPr/>
          <p:nvPr/>
        </p:nvSpPr>
        <p:spPr>
          <a:xfrm rot="1474800">
            <a:off x="5090760" y="54990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8"/>
          <p:cNvSpPr/>
          <p:nvPr/>
        </p:nvSpPr>
        <p:spPr>
          <a:xfrm>
            <a:off x="0" y="838080"/>
            <a:ext cx="914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4, step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6" descr="_x0014_01_04Figure1&amp;3-7.jpg                                           000447CA&#10;Maxtor 300                     BFF2A1C5:"/>
          <p:cNvPicPr/>
          <p:nvPr/>
        </p:nvPicPr>
        <p:blipFill>
          <a:blip r:embed="rId1"/>
          <a:stretch/>
        </p:blipFill>
        <p:spPr>
          <a:xfrm>
            <a:off x="484200" y="230040"/>
            <a:ext cx="6853320" cy="5988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7"/>
          <p:cNvSpPr/>
          <p:nvPr/>
        </p:nvSpPr>
        <p:spPr>
          <a:xfrm>
            <a:off x="1010880" y="2768760"/>
            <a:ext cx="11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849240" y="4175280"/>
            <a:ext cx="100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333080" y="228600"/>
            <a:ext cx="1113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507320" y="1809720"/>
            <a:ext cx="173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6300360" y="17463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2"/>
          <p:cNvSpPr/>
          <p:nvPr/>
        </p:nvSpPr>
        <p:spPr>
          <a:xfrm>
            <a:off x="3520080" y="4718160"/>
            <a:ext cx="1608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homeosta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3"/>
          <p:cNvSpPr/>
          <p:nvPr/>
        </p:nvSpPr>
        <p:spPr>
          <a:xfrm>
            <a:off x="6986880" y="3851280"/>
            <a:ext cx="152172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uen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itud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vari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homeost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4"/>
          <p:cNvSpPr/>
          <p:nvPr/>
        </p:nvSpPr>
        <p:spPr>
          <a:xfrm>
            <a:off x="6497280" y="434880"/>
            <a:ext cx="1867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way to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5"/>
          <p:cNvSpPr/>
          <p:nvPr/>
        </p:nvSpPr>
        <p:spPr>
          <a:xfrm>
            <a:off x="4168440" y="339840"/>
            <a:ext cx="72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6"/>
          <p:cNvSpPr/>
          <p:nvPr/>
        </p:nvSpPr>
        <p:spPr>
          <a:xfrm rot="1474800">
            <a:off x="2808000" y="42642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7"/>
          <p:cNvSpPr/>
          <p:nvPr/>
        </p:nvSpPr>
        <p:spPr>
          <a:xfrm rot="1474800">
            <a:off x="5090760" y="549900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aintaining Homeostasi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body communicates through neural and hormonal control system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pto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onds to changes in the environme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nds information to control cente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aintaining Homeostasi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 cente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etermines set poi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lyzes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inform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termines appropriate respons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ecto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vides a means for response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o the stimul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Feedback Mechanis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feedback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cludes most homeostatic control mechanism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uts off the original stimulus, or reduces its intens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s like a household thermost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Feedback Mechanis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ositive feedback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reases the original stimulus to push the variable farthe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 the body this only occur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ood clotting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ring the birth of a bab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48862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Lymphatic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turns fluids to blood vesse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eanses the bloo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nvolved in immun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0" descr="_x0012_01_02Figureg-L.jpg                                             004E428B_x000c_EHAP_for_kym                   C37AF81A:"/>
          <p:cNvPicPr/>
          <p:nvPr/>
        </p:nvPicPr>
        <p:blipFill>
          <a:blip r:embed="rId1"/>
          <a:srcRect l="3879" t="1143" r="4151" b="21458"/>
          <a:stretch/>
        </p:blipFill>
        <p:spPr>
          <a:xfrm>
            <a:off x="5940360" y="1068480"/>
            <a:ext cx="2897280" cy="47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4880"/>
            <a:ext cx="49593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spirator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Keeps blood supplied with oxyge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moves carbon dioxid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4" descr="_x0012_01_02Figureh-L.jpg                                             004E428B_x000c_EHAP_for_kym                   C37AF81A:"/>
          <p:cNvPicPr/>
          <p:nvPr/>
        </p:nvPicPr>
        <p:blipFill>
          <a:blip r:embed="rId1"/>
          <a:srcRect l="13438" t="0" r="8775" b="21429"/>
          <a:stretch/>
        </p:blipFill>
        <p:spPr>
          <a:xfrm>
            <a:off x="6118200" y="1066680"/>
            <a:ext cx="243828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4880"/>
            <a:ext cx="46641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igestiv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reaks down foo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llows for nutrient absorption into bloo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liminates indigestible materi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767360" y="60199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1" descr="_x0012_01_02Figurei-L.jpg                                             004E428B_x000c_EHAP_for_kym                   C37AF81A:"/>
          <p:cNvPicPr/>
          <p:nvPr/>
        </p:nvPicPr>
        <p:blipFill>
          <a:blip r:embed="rId1"/>
          <a:srcRect l="4328" t="1215" r="4285" b="21423"/>
          <a:stretch/>
        </p:blipFill>
        <p:spPr>
          <a:xfrm>
            <a:off x="5715000" y="990720"/>
            <a:ext cx="30481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4880"/>
            <a:ext cx="49593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Urinar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liminates nitrogenous wast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aintains acid-base balanc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gulates water and electrolyt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7767360" y="60199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0" descr="_x0012_01_02Figurej-L.jpg                                             004E428B_x000c_EHAP_for_kym                   C37AF81A:"/>
          <p:cNvPicPr/>
          <p:nvPr/>
        </p:nvPicPr>
        <p:blipFill>
          <a:blip r:embed="rId1"/>
          <a:srcRect l="14319" t="0" r="7618" b="20268"/>
          <a:stretch/>
        </p:blipFill>
        <p:spPr>
          <a:xfrm>
            <a:off x="5867280" y="1066680"/>
            <a:ext cx="258768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Organ System Over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2576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productiv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duces offspring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7766640" y="601992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2k–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3" descr="_x0012_01_02Figurek-L.jpg                                             004E428B_x000c_EHAP_for_kym                   C37AF81A:"/>
          <p:cNvPicPr/>
          <p:nvPr/>
        </p:nvPicPr>
        <p:blipFill>
          <a:blip r:embed="rId1"/>
          <a:srcRect l="8102" t="1165" r="8057" b="21415"/>
          <a:stretch/>
        </p:blipFill>
        <p:spPr>
          <a:xfrm>
            <a:off x="3048120" y="1219320"/>
            <a:ext cx="2992320" cy="441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_x0012_01_02Figurel-L.jpg                                             004E428B_x000c_EHAP_for_kym                   C37AF81A:"/>
          <p:cNvPicPr/>
          <p:nvPr/>
        </p:nvPicPr>
        <p:blipFill>
          <a:blip r:embed="rId2"/>
          <a:srcRect l="18384" t="1165" r="18353" b="24156"/>
          <a:stretch/>
        </p:blipFill>
        <p:spPr>
          <a:xfrm>
            <a:off x="6248520" y="1295280"/>
            <a:ext cx="261936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Necessary Life Funct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065240"/>
            <a:ext cx="7767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intain boundari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me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Locomo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ment of substanc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onsivenes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bility to sense changes and reac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ges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reak-down and absorption of nutri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Necessary Life Funct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bolism—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hemical reactions within the bod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duces energ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akes body struc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re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iminates waste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rom metabolic react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ynthia Taylor</cp:lastModifiedBy>
  <cp:lastPrinted>2001-01-06T03:20:03Z</cp:lastPrinted>
  <dcterms:modified xsi:type="dcterms:W3CDTF">2014-09-05T16:08:12Z</dcterms:modified>
  <cp:revision>344</cp:revision>
  <dc:subject/>
  <dc:title>Nerve activates contraction</dc:title>
</cp:coreProperties>
</file>